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692-04B8-432C-BD5D-540A13EC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7AF-2AB7-4871-8EC7-722FBDEC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CD3-1A82-45E8-93AD-FDBAFF82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9EB-8227-4DA5-A00A-220D68F8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39A-D0BF-4330-B327-2CE8429D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E02-C87F-4E73-B901-CF2BF986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FE1-467D-4E28-B28A-EF0DC62E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F97-02E2-4CE3-86C9-D233896F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09F-2ED3-4617-AEDE-34D55ABA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9F9-303E-4606-8A36-5943E1FA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BAD-025C-40B6-BB4B-52D41693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843-AB81-4AC8-B339-06EE53DA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B61F2-98F8-4457-BDC5-7CC89E504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CA58C-3D21-4AC7-8AAE-0D84D85070F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7:30:52Z</dcterms:created>
  <dc:creator>최봉수</dc:creator>
  <dc:description/>
  <dc:language>en-US</dc:language>
  <cp:lastModifiedBy>군만두 맛있다</cp:lastModifiedBy>
  <dcterms:modified xsi:type="dcterms:W3CDTF">2023-07-12T05:42:49Z</dcterms:modified>
  <cp:revision>5</cp:revision>
  <dc:subject/>
  <dc:title>슬라이드 1</dc:title>
</cp:coreProperties>
</file>