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AC3-3BFB-4C34-BDA3-B7F9D386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F86-15C4-48C7-B577-C421D57B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B56-70B0-4F52-8B50-5FBB010C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F02-19F4-40EF-898C-36B904D6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1FD-0073-44CB-BA61-AD2C0607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EA7-DF00-4BB1-8FA1-7DF6057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B81-0169-4BF5-827E-D52AD5C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5A3-D152-466B-BC65-482504A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F82-0267-41FA-97CB-1CADA38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69B-8C9B-4E88-A126-39C284E7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C5F-20F7-48EE-A9DB-2C40B7F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D9A-5D48-4779-B461-844F2CD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6FA69-CF75-4FFF-9202-68232BC7C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4E99A-8034-41B4-AEFA-18CF71599F3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8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7:30:52Z</dcterms:created>
  <dc:creator>최봉수</dc:creator>
  <dc:description/>
  <dc:language>en-US</dc:language>
  <cp:lastModifiedBy>군만두 맛있다</cp:lastModifiedBy>
  <dcterms:modified xsi:type="dcterms:W3CDTF">2023-07-12T05:42:49Z</dcterms:modified>
  <cp:revision>5</cp:revision>
  <dc:subject/>
  <dc:title>슬라이드 1</dc:title>
</cp:coreProperties>
</file>