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4.jpeg" ContentType="image/jpeg"/>
  <Override PartName="/ppt/media/image11.png" ContentType="image/png"/>
  <Override PartName="/ppt/media/camera.wav" ContentType="audio/x-wav"/>
  <Override PartName="/ppt/media/laser.wav" ContentType="audio/x-wav"/>
  <Override PartName="/ppt/media/image1.png" ContentType="image/png"/>
  <Override PartName="/ppt/media/image2.gif" ContentType="image/gif"/>
  <Override PartName="/ppt/media/image10.jpeg" ContentType="image/jpeg"/>
  <Override PartName="/ppt/media/image3.wmf" ContentType="image/x-wmf"/>
  <Override PartName="/ppt/media/type.wav" ContentType="audio/x-wav"/>
  <Override PartName="/ppt/media/WHOOSH.WAV" ContentType="audio/x-wav"/>
  <Override PartName="/ppt/media/CARBRAKE.WAV" ContentType="audio/x-wav"/>
  <Override PartName="/ppt/media/image12.jpeg" ContentType="image/jpeg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127-1FEF-4368-A7D4-F2B19B0A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C84-6E92-4851-99D8-FC5A1857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E44-075A-406A-9CB1-B38ABF57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21D-94FB-488C-A51E-8C0BF8F6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B956-7E4D-4F5A-917D-60480654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389A-F655-4932-B054-DA6A66D9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D4C4-ACE6-4952-9438-EB7F4E0E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ED98-5371-4875-BF93-97044B9C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70C5-B9EF-42DC-98EA-F2B431E0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0DFA-89F9-4A09-AC3A-689372B4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AF2B-153F-4F86-938A-7F99B23C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979-52D6-47A5-AE47-2A1ACD2C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305E-6792-4BF4-84DE-5588096F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92BC-1F4A-40C1-B61C-30653643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7950-8872-4DA6-8F90-8EA2650C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BAF9-73C8-494B-87C8-271FA087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D5B7-9327-4A45-AF42-8FC8D79D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20B-33D4-4086-B6CB-4CEA8E92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591-0D75-434D-A3C1-B7ADE298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469-BBAA-412C-AA8B-43690024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8EE-09E4-4F5C-8391-25499810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59E-20A7-4D03-892F-8691768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68A-79C5-4EA9-892B-50B94E19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6FA-7F36-4021-863F-C21776CD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2FEC-A736-49B4-AFC5-9B2EE59F166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4264-3E23-497E-A64D-C8FBE3C467A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dawahmemo.com/" TargetMode="External"/><Relationship Id="rId3" Type="http://schemas.openxmlformats.org/officeDocument/2006/relationships/audio" Target="../media/WHOOSH.WAV"/><Relationship Id="rId4" Type="http://schemas.openxmlformats.org/officeDocument/2006/relationships/audio" Target="../media/CARBRAKE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WHOOSH.WAV"/><Relationship Id="rId5" Type="http://schemas.openxmlformats.org/officeDocument/2006/relationships/audio" Target="../media/CARBRAKE.WAV"/><Relationship Id="rId6" Type="http://schemas.openxmlformats.org/officeDocument/2006/relationships/audio" Target="../media/WHOOSH.WAV"/><Relationship Id="rId7" Type="http://schemas.openxmlformats.org/officeDocument/2006/relationships/audio" Target="../media/CARBRAKE.WAV"/><Relationship Id="rId8" Type="http://schemas.openxmlformats.org/officeDocument/2006/relationships/audio" Target="../media/WHOOSH.WAV"/><Relationship Id="rId9" Type="http://schemas.openxmlformats.org/officeDocument/2006/relationships/audio" Target="../media/CARBRAKE.WAV"/><Relationship Id="rId10" Type="http://schemas.openxmlformats.org/officeDocument/2006/relationships/audio" Target="../media/WHOOSH.WAV"/><Relationship Id="rId11" Type="http://schemas.openxmlformats.org/officeDocument/2006/relationships/audio" Target="../media/CARBRAKE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WHOOSH.WAV"/><Relationship Id="rId15" Type="http://schemas.openxmlformats.org/officeDocument/2006/relationships/audio" Target="../media/CARBRAKE.WAV"/><Relationship Id="rId16" Type="http://schemas.openxmlformats.org/officeDocument/2006/relationships/audio" Target="../media/WHOOSH.WAV"/><Relationship Id="rId17" Type="http://schemas.openxmlformats.org/officeDocument/2006/relationships/audio" Target="../media/CARBRAKE.WAV"/><Relationship Id="rId18" Type="http://schemas.openxmlformats.org/officeDocument/2006/relationships/audio" Target="../media/WHOOSH.WAV"/><Relationship Id="rId19" Type="http://schemas.openxmlformats.org/officeDocument/2006/relationships/audio" Target="../media/CARBRAKE.WAV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WHOOSH.WAV"/><Relationship Id="rId5" Type="http://schemas.openxmlformats.org/officeDocument/2006/relationships/audio" Target="../media/CARBRAKE.WAV"/><Relationship Id="rId6" Type="http://schemas.openxmlformats.org/officeDocument/2006/relationships/audio" Target="../media/WHOOSH.WAV"/><Relationship Id="rId7" Type="http://schemas.openxmlformats.org/officeDocument/2006/relationships/audio" Target="../media/CARBRAKE.WAV"/><Relationship Id="rId8" Type="http://schemas.openxmlformats.org/officeDocument/2006/relationships/audio" Target="../media/WHOOSH.WAV"/><Relationship Id="rId9" Type="http://schemas.openxmlformats.org/officeDocument/2006/relationships/audio" Target="../media/CARBRAKE.WAV"/><Relationship Id="rId10" Type="http://schemas.openxmlformats.org/officeDocument/2006/relationships/audio" Target="../media/WHOOSH.WAV"/><Relationship Id="rId11" Type="http://schemas.openxmlformats.org/officeDocument/2006/relationships/audio" Target="../media/CARBRAKE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WHOOSH.WAV"/><Relationship Id="rId15" Type="http://schemas.openxmlformats.org/officeDocument/2006/relationships/audio" Target="../media/CARBRAKE.WAV"/><Relationship Id="rId16" Type="http://schemas.openxmlformats.org/officeDocument/2006/relationships/audio" Target="../media/WHOOSH.WAV"/><Relationship Id="rId17" Type="http://schemas.openxmlformats.org/officeDocument/2006/relationships/audio" Target="../media/CARBRAKE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WHOOSH.WAV"/><Relationship Id="rId12" Type="http://schemas.openxmlformats.org/officeDocument/2006/relationships/audio" Target="../media/CARBRAKE.WAV"/><Relationship Id="rId13" Type="http://schemas.openxmlformats.org/officeDocument/2006/relationships/audio" Target="../media/WHOOSH.WAV"/><Relationship Id="rId14" Type="http://schemas.openxmlformats.org/officeDocument/2006/relationships/audio" Target="../media/CARBRAKE.WAV"/><Relationship Id="rId15" Type="http://schemas.openxmlformats.org/officeDocument/2006/relationships/audio" Target="../media/WHOOSH.WAV"/><Relationship Id="rId16" Type="http://schemas.openxmlformats.org/officeDocument/2006/relationships/audio" Target="../media/CARBRAKE.WAV"/><Relationship Id="rId17" Type="http://schemas.openxmlformats.org/officeDocument/2006/relationships/audio" Target="../media/WHOOSH.WAV"/><Relationship Id="rId18" Type="http://schemas.openxmlformats.org/officeDocument/2006/relationships/audio" Target="../media/CARBRAKE.WAV"/><Relationship Id="rId19" Type="http://schemas.openxmlformats.org/officeDocument/2006/relationships/audio" Target="../media/WHOOSH.WAV"/><Relationship Id="rId20" Type="http://schemas.openxmlformats.org/officeDocument/2006/relationships/audio" Target="../media/CARBRAKE.WAV"/><Relationship Id="rId21" Type="http://schemas.openxmlformats.org/officeDocument/2006/relationships/audio" Target="../media/WHOOSH.WAV"/><Relationship Id="rId22" Type="http://schemas.openxmlformats.org/officeDocument/2006/relationships/audio" Target="../media/CARBRAKE.WAV"/><Relationship Id="rId23" Type="http://schemas.openxmlformats.org/officeDocument/2006/relationships/audio" Target="../media/WHOOSH.WAV"/><Relationship Id="rId24" Type="http://schemas.openxmlformats.org/officeDocument/2006/relationships/audio" Target="../media/CARBRAKE.WAV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WHOOSH.WAV"/><Relationship Id="rId15" Type="http://schemas.openxmlformats.org/officeDocument/2006/relationships/audio" Target="../media/CARBRAKE.WAV"/><Relationship Id="rId16" Type="http://schemas.openxmlformats.org/officeDocument/2006/relationships/audio" Target="../media/WHOOSH.WAV"/><Relationship Id="rId17" Type="http://schemas.openxmlformats.org/officeDocument/2006/relationships/audio" Target="../media/CARBRAKE.WAV"/><Relationship Id="rId18" Type="http://schemas.openxmlformats.org/officeDocument/2006/relationships/audio" Target="../media/WHOOSH.WAV"/><Relationship Id="rId19" Type="http://schemas.openxmlformats.org/officeDocument/2006/relationships/audio" Target="../media/CARBRAKE.WAV"/><Relationship Id="rId20" Type="http://schemas.openxmlformats.org/officeDocument/2006/relationships/audio" Target="../media/WHOOSH.WAV"/><Relationship Id="rId21" Type="http://schemas.openxmlformats.org/officeDocument/2006/relationships/audio" Target="../media/CARBRAKE.WAV"/><Relationship Id="rId22" Type="http://schemas.openxmlformats.org/officeDocument/2006/relationships/audio" Target="../media/WHOOSH.WAV"/><Relationship Id="rId23" Type="http://schemas.openxmlformats.org/officeDocument/2006/relationships/audio" Target="../media/CARBRAKE.WAV"/><Relationship Id="rId24" Type="http://schemas.openxmlformats.org/officeDocument/2006/relationships/audio" Target="../media/WHOOSH.WAV"/><Relationship Id="rId25" Type="http://schemas.openxmlformats.org/officeDocument/2006/relationships/audio" Target="../media/CARBRAKE.WAV"/><Relationship Id="rId26" Type="http://schemas.openxmlformats.org/officeDocument/2006/relationships/audio" Target="../media/WHOOSH.WAV"/><Relationship Id="rId27" Type="http://schemas.openxmlformats.org/officeDocument/2006/relationships/audio" Target="../media/CARBRAKE.WAV"/><Relationship Id="rId2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WHOOSH.WAV"/><Relationship Id="rId12" Type="http://schemas.openxmlformats.org/officeDocument/2006/relationships/audio" Target="../media/CARBRAKE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ARBRAKE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CARBRAKE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camera.wav"/><Relationship Id="rId19" Type="http://schemas.openxmlformats.org/officeDocument/2006/relationships/audio" Target="../media/CARBRAKE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WHOOSH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WHOOSH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WHOOSH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WHOOSH.WAV"/><Relationship Id="rId27" Type="http://schemas.openxmlformats.org/officeDocument/2006/relationships/audio" Target="../media/camera.wav"/><Relationship Id="rId28" Type="http://schemas.openxmlformats.org/officeDocument/2006/relationships/audio" Target="../media/WHOOSH.WAV"/><Relationship Id="rId29" Type="http://schemas.openxmlformats.org/officeDocument/2006/relationships/audio" Target="../media/camera.wav"/><Relationship Id="rId30" Type="http://schemas.openxmlformats.org/officeDocument/2006/relationships/audio" Target="../media/WHOOSH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WHOOSH.WAV"/><Relationship Id="rId34" Type="http://schemas.openxmlformats.org/officeDocument/2006/relationships/audio" Target="../media/camera.wav"/><Relationship Id="rId35" Type="http://schemas.openxmlformats.org/officeDocument/2006/relationships/audio" Target="../media/WHOOSH.WAV"/><Relationship Id="rId36" Type="http://schemas.openxmlformats.org/officeDocument/2006/relationships/audio" Target="../media/camera.wav"/><Relationship Id="rId37" Type="http://schemas.openxmlformats.org/officeDocument/2006/relationships/audio" Target="../media/WHOOSH.WAV"/><Relationship Id="rId38" Type="http://schemas.openxmlformats.org/officeDocument/2006/relationships/audio" Target="../media/camera.wav"/><Relationship Id="rId39" Type="http://schemas.openxmlformats.org/officeDocument/2006/relationships/audio" Target="../media/WHOOSH.WAV"/><Relationship Id="rId40" Type="http://schemas.openxmlformats.org/officeDocument/2006/relationships/audio" Target="../media/camera.wav"/><Relationship Id="rId41" Type="http://schemas.openxmlformats.org/officeDocument/2006/relationships/audio" Target="../media/WHOOSH.WAV"/><Relationship Id="rId42" Type="http://schemas.openxmlformats.org/officeDocument/2006/relationships/audio" Target="../media/camera.wav"/><Relationship Id="rId4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RBRAKE.WAV"/><Relationship Id="rId7" Type="http://schemas.openxmlformats.org/officeDocument/2006/relationships/audio" Target="../media/type.wav"/><Relationship Id="rId8" Type="http://schemas.openxmlformats.org/officeDocument/2006/relationships/audio" Target="../media/CARBRAK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RBRAK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CARBRAK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981000"/>
            <a:ext cx="63244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200" spc="-1" strike="noStrike">
                <a:solidFill>
                  <a:srgbClr val="ffffff"/>
                </a:solidFill>
                <a:latin typeface="Times New Roman"/>
              </a:rPr>
              <a:t>الاتصالات والعلاقات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30481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ffcc00"/>
            </a:outerShdw>
          </a:effectLst>
        </p:spPr>
      </p:pic>
      <p:sp>
        <p:nvSpPr>
          <p:cNvPr id="143" name=""/>
          <p:cNvSpPr/>
          <p:nvPr/>
        </p:nvSpPr>
        <p:spPr>
          <a:xfrm>
            <a:off x="1187280" y="6165720"/>
            <a:ext cx="6324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ffff"/>
                </a:solidFill>
                <a:latin typeface="Times New Roman"/>
              </a:rPr>
              <a:t>المفكرة الدعوية </a:t>
            </a:r>
            <a:r>
              <a:rPr b="0" lang="en-US" sz="2000" spc="-1" strike="noStrike" u="sng">
                <a:solidFill>
                  <a:srgbClr val="f98d43"/>
                </a:solidFill>
                <a:uFillTx/>
                <a:latin typeface="Times New Roman"/>
                <a:hlinkClick r:id="rId2"/>
              </a:rPr>
              <a:t>www.dawahmemo.com</a:t>
            </a:r>
            <a:r>
              <a:rPr b="1" i="1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نظام الاتصال داخل وخارج المؤسسة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2952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295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مع المستويين الاعلى والادن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1066680"/>
            <a:ext cx="2209680" cy="1067040"/>
          </a:xfrm>
          <a:prstGeom prst="flowChartDisplay">
            <a:avLst/>
          </a:pr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10280" y="1263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1-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رأس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24382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4382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مع مستوى المركز أو المدير أو داخل المرك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2209680"/>
            <a:ext cx="2209680" cy="1067040"/>
          </a:xfrm>
          <a:prstGeom prst="flowChartDisplay">
            <a:avLst/>
          </a:pr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10280" y="2406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2-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فق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419720"/>
            <a:ext cx="2666880" cy="1676160"/>
          </a:xfrm>
          <a:custGeom>
            <a:avLst/>
            <a:gdLst>
              <a:gd name="textAreaLeft" fmla="*/ 666720 w 2666880"/>
              <a:gd name="textAreaRight" fmla="*/ 2000160 w 2666880"/>
              <a:gd name="textAreaTop" fmla="*/ 419040 h 1676160"/>
              <a:gd name="textAreaBottom" fmla="*/ 12571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4952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3300"/>
                </a:solidFill>
                <a:latin typeface="Times New Roman"/>
              </a:rPr>
              <a:t>المركز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365760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إدارة التعلي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487692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داخل المرك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8006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خارج المرك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60199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مدار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75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75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75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75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75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75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75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429000" y="1828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27432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304920"/>
            <a:ext cx="6858000" cy="243828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9ce1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819520" y="1066680"/>
            <a:ext cx="28670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فن 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3276720"/>
            <a:ext cx="8686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يعتمد على سريان عملية الاتصال ف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إتساق وتسلسل مع اضعاف عنصر الشوشر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75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75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75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75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429000" y="1828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76320"/>
            <a:ext cx="6705360" cy="15238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3808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لضمان اتصال ناجح نراع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828800"/>
            <a:ext cx="762012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19051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1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تحديد المستقبل طبقاً للمستوى الهرمي من حي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3434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4343400"/>
            <a:ext cx="761976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44197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2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يؤخذ في الاعتبار مستقبل الرسالة من حي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541008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57913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imes New Roman"/>
              </a:rPr>
              <a:t>ردود</a:t>
            </a:r>
            <a:r>
              <a:rPr b="0" lang="ar-SA" sz="3200" spc="-1" strike="noStrike">
                <a:solidFill>
                  <a:srgbClr val="00cc00"/>
                </a:solidFill>
                <a:latin typeface="Times New Roman"/>
              </a:rPr>
              <a:t> فعل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54864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29400" y="5867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imes New Roman"/>
              </a:rPr>
              <a:t>شعور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54864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58672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imes New Roman"/>
              </a:rPr>
              <a:t>انفعالا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27432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31240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مكانا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819520"/>
            <a:ext cx="1981440" cy="137160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صفا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7120" y="28195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مكانت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29000" y="1828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76320"/>
            <a:ext cx="6705360" cy="15238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3808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لضمان اتصال ناجح نراع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828800"/>
            <a:ext cx="762012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1905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أن تكون الرسالة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3434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4343400"/>
            <a:ext cx="761976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44197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يجب تحديد الهدف من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27432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بسيط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819520"/>
            <a:ext cx="1981440" cy="137160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9880" y="32004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مفهوم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28195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5fc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واضح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3920" y="44956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5257800"/>
            <a:ext cx="761976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10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5- 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اختيار المعنى المناسب والوقت المناسب لإرسال الرسال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6095880"/>
            <a:ext cx="7619760" cy="762120"/>
          </a:xfrm>
          <a:prstGeom prst="flowChartTerminator">
            <a:avLst/>
          </a:prstGeom>
          <a:gradFill rotWithShape="0">
            <a:gsLst>
              <a:gs pos="0">
                <a:srgbClr val="aad1a3"/>
              </a:gs>
              <a:gs pos="50000">
                <a:srgbClr val="ffffff"/>
              </a:gs>
              <a:gs pos="100000">
                <a:srgbClr val="aad1a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61722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حصول على تغذية رجعية سليمة من المستقب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عوائق 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12952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1295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لتحقق من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1219320"/>
            <a:ext cx="1523880" cy="838080"/>
          </a:xfrm>
          <a:prstGeom prst="flowChartDisplay">
            <a:avLst/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43800" y="12636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280" y="24382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23922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فقدان الانتبا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2438280"/>
            <a:ext cx="1600200" cy="762120"/>
          </a:xfrm>
          <a:prstGeom prst="flowChartDisplay">
            <a:avLst/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34320" y="25146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38098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3809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فتراضات مهم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3733920"/>
            <a:ext cx="1523880" cy="838080"/>
          </a:xfrm>
          <a:prstGeom prst="flowChartDisplay">
            <a:avLst/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43800" y="37782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4952880"/>
            <a:ext cx="6477120" cy="609840"/>
          </a:xfrm>
          <a:prstGeom prst="roundRect">
            <a:avLst>
              <a:gd name="adj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49068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لخ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4876920"/>
            <a:ext cx="1600200" cy="761760"/>
          </a:xfrm>
          <a:prstGeom prst="flowChartDisplay">
            <a:avLst/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489096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762120" y="27432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312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غض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91320" y="14479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1828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رض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77120" y="28195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2940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ام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57600" y="44197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4800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خ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44197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8006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اشمئزا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13716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1752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فر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3880" y="4419720"/>
            <a:ext cx="1981440" cy="137160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4800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حز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66880" y="2057400"/>
            <a:ext cx="3581640" cy="228600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521640 h 2286000"/>
              <a:gd name="textAreaBottom" fmla="*/ 1764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663a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71800" y="2438280"/>
            <a:ext cx="2743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9900"/>
                </a:solidFill>
                <a:latin typeface="Times New Roman"/>
              </a:rPr>
              <a:t>اول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9900"/>
                </a:solidFill>
                <a:latin typeface="Times New Roman"/>
              </a:rPr>
              <a:t>الشعو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42920" y="18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6ffff"/>
                </a:solidFill>
                <a:latin typeface="Times New Roman"/>
              </a:rPr>
              <a:t>تأثيرات الاتصا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762120" y="335268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3733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صداق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20574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24382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تفاع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77120" y="34290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3809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عد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50292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54100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شور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91320" y="502920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43600" y="541008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تسل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198108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00200" y="23623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اخلا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5029200"/>
            <a:ext cx="1981440" cy="1371600"/>
          </a:xfrm>
          <a:custGeom>
            <a:avLst/>
            <a:gdLst>
              <a:gd name="textAreaLeft" fmla="*/ 452160 w 1981440"/>
              <a:gd name="textAreaRight" fmla="*/ 1529280 w 198144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5410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امان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2666880"/>
            <a:ext cx="3581640" cy="228600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521640 h 2286000"/>
              <a:gd name="textAreaBottom" fmla="*/ 1764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663a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048120"/>
            <a:ext cx="2743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00"/>
                </a:solidFill>
                <a:latin typeface="Times New Roman"/>
              </a:rPr>
              <a:t>ثانيا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00"/>
                </a:solidFill>
                <a:latin typeface="Times New Roman"/>
              </a:rPr>
              <a:t>ردود الفع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219320"/>
            <a:ext cx="1981080" cy="137160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9880" y="163044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عدم التفاع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42920" y="18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6ffff"/>
                </a:solidFill>
                <a:latin typeface="Times New Roman"/>
              </a:rPr>
              <a:t>تأثيرات الاتصا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8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7238880" y="990720"/>
            <a:ext cx="163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مفهومها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8288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185724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جهود الادارية المرسومة والمستمرة التي تهدف الى إقامة وتدعيم تفاهم متبادل بين هيئة وجمهوره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238880" y="3124080"/>
            <a:ext cx="163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تعريف آخ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44197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الاتصال بالجماهير التي تتعامل مع المؤسسات العامة في المجتم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42920" y="18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</a:rPr>
              <a:t>العلاقات العام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57200" y="18288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1857240"/>
            <a:ext cx="8229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توعية بالأهداف العامة للمؤسسة وإيضاح أهدافه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تنمية الفهم المشترك والتعاون المستمر بين المؤسسة وجمهوره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تحويل الاتجاهات السلبية لدى الجماهير الى اتجاهات إيجابية بناءة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4-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إقامة علاقات طيبة مع العاملين والارتفاع بمستواهم الثقافي والاجتماع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42920" y="18900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98d43"/>
                </a:solidFill>
                <a:latin typeface="Times New Roman"/>
              </a:rPr>
              <a:t>أهداف العلاقات العام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18288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304920"/>
            <a:ext cx="7696080" cy="1143000"/>
          </a:xfrm>
          <a:prstGeom prst="flowChartPreparation">
            <a:avLst/>
          </a:prstGeom>
          <a:gradFill rotWithShape="0">
            <a:gsLst>
              <a:gs pos="0">
                <a:srgbClr val="ff3399"/>
              </a:gs>
              <a:gs pos="50000">
                <a:srgbClr val="f5fcb6"/>
              </a:gs>
              <a:gs pos="100000">
                <a:srgbClr val="ff33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5335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a50021"/>
                </a:solidFill>
                <a:latin typeface="Times New Roman"/>
              </a:rPr>
              <a:t>بماذا تتحقق العلاقات العامة الناجحة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5880" y="2057400"/>
            <a:ext cx="2590920" cy="144792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72200" y="242244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99"/>
                </a:solidFill>
                <a:latin typeface="Times New Roman"/>
              </a:rPr>
              <a:t>التعلي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1676520"/>
            <a:ext cx="2590920" cy="144756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19810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99"/>
                </a:solidFill>
                <a:latin typeface="Times New Roman"/>
              </a:rPr>
              <a:t>الممارس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2133720"/>
            <a:ext cx="2590920" cy="144756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249876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الاخبار الصاد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4343400"/>
            <a:ext cx="2895480" cy="167652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480060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لاداء الحس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71800" y="4343400"/>
            <a:ext cx="2895480" cy="167652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4800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الاخبار الصاد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3868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3886200"/>
            <a:ext cx="1828800" cy="27432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743200"/>
              <a:gd name="textAreaBottom" fmla="*/ 2653920 h 2743200"/>
            </a:gdLst>
            <a:ahLst/>
            <a:rect l="textAreaLeft" t="textAreaTop" r="textAreaRight" b="textAreaBottom"/>
            <a:pathLst>
              <a:path w="21600" h="32398">
                <a:moveTo>
                  <a:pt x="3600" y="0"/>
                </a:moveTo>
                <a:arcTo wR="3600" hR="3600" stAng="16200000" swAng="-5400000"/>
                <a:lnTo>
                  <a:pt x="0" y="28798"/>
                </a:lnTo>
                <a:arcTo wR="3600" hR="3600" stAng="10800000" swAng="-5400000"/>
                <a:lnTo>
                  <a:pt x="18000" y="32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3962520"/>
            <a:ext cx="16765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علاقا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عام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طيب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2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365720"/>
            <a:ext cx="617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Times New Roman (Arabic)"/>
              </a:rPr>
              <a:t>إعداد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Times New Roman (Arabic)"/>
              </a:rPr>
              <a:t>عبد الله علي عسيري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1143000"/>
            <a:ext cx="556272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الدراسة العملية للشارة الخشبية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 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الطائف 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28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 /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5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 – 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5/6/1422</a:t>
            </a:r>
            <a:r>
              <a:rPr b="1" i="1" lang="ar-SA" sz="40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ه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400800" y="2133720"/>
            <a:ext cx="2438280" cy="4495680"/>
          </a:xfrm>
          <a:custGeom>
            <a:avLst/>
            <a:gdLst>
              <a:gd name="textAreaLeft" fmla="*/ 287280 w 2438280"/>
              <a:gd name="textAreaRight" fmla="*/ 2151000 w 2438280"/>
              <a:gd name="textAreaTop" fmla="*/ 287280 h 4495680"/>
              <a:gd name="textAreaBottom" fmla="*/ 4208400 h 4495680"/>
            </a:gdLst>
            <a:ahLst/>
            <a:rect l="textAreaLeft" t="textAreaTop" r="textAreaRight" b="textAreaBottom"/>
            <a:pathLst>
              <a:path w="21600" h="39823">
                <a:moveTo>
                  <a:pt x="3600" y="0"/>
                </a:moveTo>
                <a:arcTo wR="3600" hR="3600" stAng="0" swAng="5400000"/>
                <a:lnTo>
                  <a:pt x="0" y="36223"/>
                </a:lnTo>
                <a:arcTo wR="3600" hR="3600" stAng="16200000" swAng="5400000"/>
                <a:lnTo>
                  <a:pt x="18000" y="3982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304920"/>
            <a:ext cx="2514600" cy="1676160"/>
          </a:xfrm>
          <a:prstGeom prst="downArrowCallout">
            <a:avLst>
              <a:gd name="adj1" fmla="val 37509"/>
              <a:gd name="adj2" fmla="val 37505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5176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علاقات العام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2057400"/>
            <a:ext cx="2438280" cy="4495680"/>
          </a:xfrm>
          <a:custGeom>
            <a:avLst/>
            <a:gdLst>
              <a:gd name="textAreaLeft" fmla="*/ 287280 w 2438280"/>
              <a:gd name="textAreaRight" fmla="*/ 2151000 w 2438280"/>
              <a:gd name="textAreaTop" fmla="*/ 287280 h 4495680"/>
              <a:gd name="textAreaBottom" fmla="*/ 4208400 h 4495680"/>
            </a:gdLst>
            <a:ahLst/>
            <a:rect l="textAreaLeft" t="textAreaTop" r="textAreaRight" b="textAreaBottom"/>
            <a:pathLst>
              <a:path w="21600" h="39823">
                <a:moveTo>
                  <a:pt x="3600" y="0"/>
                </a:moveTo>
                <a:arcTo wR="3600" hR="3600" stAng="0" swAng="5400000"/>
                <a:lnTo>
                  <a:pt x="0" y="36223"/>
                </a:lnTo>
                <a:arcTo wR="3600" hR="3600" stAng="16200000" swAng="5400000"/>
                <a:lnTo>
                  <a:pt x="18000" y="3982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0800" y="2235240"/>
            <a:ext cx="243828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قناع الجمهو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وتحقيق تعاون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على أساس</a:t>
            </a: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ثق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والتفاهم المثم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279360"/>
            <a:ext cx="2438280" cy="1676520"/>
          </a:xfrm>
          <a:prstGeom prst="downArrowCallout">
            <a:avLst>
              <a:gd name="adj1" fmla="val 36362"/>
              <a:gd name="adj2" fmla="val 3635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2108160"/>
            <a:ext cx="2438280" cy="4495680"/>
          </a:xfrm>
          <a:custGeom>
            <a:avLst/>
            <a:gdLst>
              <a:gd name="textAreaLeft" fmla="*/ 287280 w 2438280"/>
              <a:gd name="textAreaRight" fmla="*/ 2151000 w 2438280"/>
              <a:gd name="textAreaTop" fmla="*/ 287280 h 4495680"/>
              <a:gd name="textAreaBottom" fmla="*/ 4208400 h 4495680"/>
            </a:gdLst>
            <a:ahLst/>
            <a:rect l="textAreaLeft" t="textAreaTop" r="textAreaRight" b="textAreaBottom"/>
            <a:pathLst>
              <a:path w="21600" h="39823">
                <a:moveTo>
                  <a:pt x="3600" y="0"/>
                </a:moveTo>
                <a:arcTo wR="3600" hR="3600" stAng="0" swAng="5400000"/>
                <a:lnTo>
                  <a:pt x="0" y="36223"/>
                </a:lnTo>
                <a:arcTo wR="3600" hR="3600" stAng="16200000" swAng="5400000"/>
                <a:lnTo>
                  <a:pt x="18000" y="3982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05320" y="2133720"/>
            <a:ext cx="2438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أخذ في</a:t>
            </a: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اعتبا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بالمطال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اساسية للإنسا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في الحيا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304920"/>
            <a:ext cx="2438640" cy="1676160"/>
          </a:xfrm>
          <a:prstGeom prst="downArrowCallout">
            <a:avLst>
              <a:gd name="adj1" fmla="val 36376"/>
              <a:gd name="adj2" fmla="val 36372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533520"/>
            <a:ext cx="28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علاقات الانسان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533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دعاي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2235240"/>
            <a:ext cx="2438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ستغلال</a:t>
            </a: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عواط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والغرائ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للتأثير</a:t>
            </a: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على الجمهو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33520" y="304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ahoma"/>
                <a:cs typeface="Tahoma"/>
              </a:rPr>
              <a:t>مع شكري وتقديري لحسن استماعكم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2286000"/>
            <a:ext cx="8001000" cy="59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00ff"/>
                </a:solidFill>
                <a:latin typeface="Times New Roman"/>
                <a:cs typeface="Simple Outline Pat"/>
              </a:rPr>
              <a:t>أخوكم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imes New Roman"/>
                <a:cs typeface="Diwani Simple Outline"/>
              </a:rPr>
              <a:t>عبدالله علي عسيري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238880" y="3809880"/>
            <a:ext cx="163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اتصالات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828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عملية فعل له (استجابة) يتولاها كل من المرسل والمستقبل ويتم خلالها استعمال بعض الحواس كالسمع والنظر واللمس والشم والتذوق ، ويكون لهذه الحواس تأثيرات سريعة على التفكير والذي يؤدي في الغالب الى الاستجاب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391520" y="914400"/>
            <a:ext cx="163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مفهومه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80060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هي الطريقة التي بواسطتها يرتبط الناس في منطقة واحدة أو في أكثر من منطق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352680" y="2362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dd5f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لاتصال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خ</a:t>
            </a: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لا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حواس الخمس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3505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9ce157"/>
              </a:gs>
              <a:gs pos="100000">
                <a:srgbClr val="d2f0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</a:t>
            </a: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لتذو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505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9ce157"/>
              </a:gs>
              <a:gs pos="100000">
                <a:srgbClr val="d2f0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لبص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4648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9ce157"/>
              </a:gs>
              <a:gs pos="100000">
                <a:srgbClr val="d2f0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لسم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219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9ce157"/>
              </a:gs>
              <a:gs pos="100000">
                <a:srgbClr val="d2f0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للم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1219320"/>
            <a:ext cx="2514600" cy="2133360"/>
          </a:xfrm>
          <a:prstGeom prst="hexagon">
            <a:avLst>
              <a:gd name="adj" fmla="val 29468"/>
              <a:gd name="vf" fmla="val 115470"/>
            </a:avLst>
          </a:prstGeom>
          <a:gradFill rotWithShape="0">
            <a:gsLst>
              <a:gs pos="0">
                <a:srgbClr val="9ce157"/>
              </a:gs>
              <a:gs pos="100000">
                <a:srgbClr val="d2f0b4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MCS Jeddah S_I normal."/>
              </a:rPr>
              <a:t>الش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602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حواس المستخدمة في الاتصا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09680" y="2133720"/>
            <a:ext cx="4648320" cy="342900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ce1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عناصر عملية الاتصا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5638680"/>
            <a:ext cx="2209680" cy="1067040"/>
          </a:xfrm>
          <a:prstGeom prst="flowChartDecis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57913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Times New Roman"/>
              </a:rPr>
              <a:t>المستقب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76720"/>
            <a:ext cx="2209680" cy="1066680"/>
          </a:xfrm>
          <a:prstGeom prst="flowChartDecisi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489480"/>
            <a:ext cx="175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Times New Roman"/>
              </a:rPr>
              <a:t>الرسال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3352680"/>
            <a:ext cx="2209680" cy="1067040"/>
          </a:xfrm>
          <a:prstGeom prst="flowChartDecis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35053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Times New Roman"/>
              </a:rPr>
              <a:t>التشف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990720"/>
            <a:ext cx="2209680" cy="1066680"/>
          </a:xfrm>
          <a:prstGeom prst="flowChartDecis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14300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Times New Roman"/>
              </a:rPr>
              <a:t>المرس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09680" y="2133720"/>
            <a:ext cx="4648320" cy="342900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ce1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عناصر عملية الاتصا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5638680"/>
            <a:ext cx="2209680" cy="1067040"/>
          </a:xfrm>
          <a:prstGeom prst="flowChartDecis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9436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Times New Roman"/>
              </a:rPr>
              <a:t>التغذية الرجع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76720"/>
            <a:ext cx="2209680" cy="1066680"/>
          </a:xfrm>
          <a:prstGeom prst="flowChartDecisi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3489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cc"/>
                </a:solidFill>
                <a:latin typeface="Times New Roman"/>
              </a:rPr>
              <a:t>الشوشر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3352680"/>
            <a:ext cx="2209680" cy="1067040"/>
          </a:xfrm>
          <a:prstGeom prst="flowChartDecis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35053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Times New Roman"/>
              </a:rPr>
              <a:t>المعن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990720"/>
            <a:ext cx="2209680" cy="1066680"/>
          </a:xfrm>
          <a:prstGeom prst="flowChartDecis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11430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Times New Roman"/>
              </a:rPr>
              <a:t>حل التشفي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نموذج عملية 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2590560" cy="1295640"/>
          </a:xfrm>
          <a:custGeom>
            <a:avLst/>
            <a:gdLst>
              <a:gd name="textAreaLeft" fmla="*/ 152640 w 2590560"/>
              <a:gd name="textAreaRight" fmla="*/ 2437920 w 2590560"/>
              <a:gd name="textAreaTop" fmla="*/ 152640 h 1295640"/>
              <a:gd name="textAreaBottom" fmla="*/ 1143000 h 1295640"/>
            </a:gdLst>
            <a:ahLst/>
            <a:rect l="textAreaLeft" t="textAreaTop" r="textAreaRight" b="textAreaBottom"/>
            <a:pathLst>
              <a:path w="431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582" y="21600"/>
                </a:lnTo>
                <a:arcTo wR="3600" hR="3600" stAng="10800000" swAng="5400000"/>
                <a:lnTo>
                  <a:pt x="4318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990720"/>
            <a:ext cx="1524240" cy="1447560"/>
          </a:xfrm>
          <a:prstGeom prst="pentag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3048120"/>
            <a:ext cx="1523880" cy="1447560"/>
          </a:xfrm>
          <a:prstGeom prst="pentag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5105520"/>
            <a:ext cx="1524240" cy="1447560"/>
          </a:xfrm>
          <a:prstGeom prst="pentag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105520"/>
            <a:ext cx="1523880" cy="1447560"/>
          </a:xfrm>
          <a:prstGeom prst="pentagon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124080"/>
            <a:ext cx="1524240" cy="1447920"/>
          </a:xfrm>
          <a:prstGeom prst="pentagon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143000"/>
            <a:ext cx="1523880" cy="1447920"/>
          </a:xfrm>
          <a:prstGeom prst="pentagon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486400" y="990720"/>
            <a:ext cx="838080" cy="12952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715000" y="990720"/>
            <a:ext cx="838080" cy="12952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867280" y="1066320"/>
            <a:ext cx="838440" cy="129564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486400" y="3809880"/>
            <a:ext cx="838080" cy="14479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428640" y="990720"/>
            <a:ext cx="762120" cy="1371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123720" y="914400"/>
            <a:ext cx="838440" cy="14479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029200" y="3809520"/>
            <a:ext cx="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3809520"/>
            <a:ext cx="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572000" y="3809520"/>
            <a:ext cx="0" cy="11430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352680" y="3962160"/>
            <a:ext cx="609840" cy="99036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0400" y="3809880"/>
            <a:ext cx="609480" cy="9907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048120" y="3657600"/>
            <a:ext cx="609480" cy="9907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648320" y="1142640"/>
            <a:ext cx="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876920" y="1142640"/>
            <a:ext cx="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105520" y="1142640"/>
            <a:ext cx="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657240" y="990720"/>
            <a:ext cx="762120" cy="1371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714640" y="3733920"/>
            <a:ext cx="762120" cy="1371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943240" y="3657240"/>
            <a:ext cx="685800" cy="12193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343400" y="1523880"/>
            <a:ext cx="1066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dd5fd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الشوشرة</a:t>
            </a:r>
            <a:endParaRPr b="0" lang="en-US" sz="2400" spc="1" strike="noStrike">
              <a:ln w="0">
                <a:noFill/>
              </a:ln>
              <a:solidFill>
                <a:srgbClr val="dd5fd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38480" y="39625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dd5fd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التغذية الراجعة</a:t>
            </a:r>
            <a:endParaRPr b="1" lang="en-US" sz="2400" spc="1" strike="noStrike">
              <a:ln w="0">
                <a:noFill/>
              </a:ln>
              <a:solidFill>
                <a:srgbClr val="dd5fd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59092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a50021"/>
                </a:solidFill>
                <a:latin typeface="Times New Roman"/>
              </a:rPr>
              <a:t>الرسال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903200">
            <a:off x="6095520" y="2057040"/>
            <a:ext cx="914400" cy="762120"/>
          </a:xfrm>
          <a:prstGeom prst="rightArrow">
            <a:avLst>
              <a:gd name="adj1" fmla="val 40417"/>
              <a:gd name="adj2" fmla="val 3228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015400">
            <a:off x="8001000" y="2210040"/>
            <a:ext cx="914400" cy="761760"/>
          </a:xfrm>
          <a:prstGeom prst="rightArrow">
            <a:avLst>
              <a:gd name="adj1" fmla="val 40417"/>
              <a:gd name="adj2" fmla="val 3229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7184400">
            <a:off x="7238520" y="4647960"/>
            <a:ext cx="914400" cy="762120"/>
          </a:xfrm>
          <a:prstGeom prst="rightArrow">
            <a:avLst>
              <a:gd name="adj1" fmla="val 40417"/>
              <a:gd name="adj2" fmla="val 3228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3086400">
            <a:off x="914400" y="4724280"/>
            <a:ext cx="914400" cy="761760"/>
          </a:xfrm>
          <a:prstGeom prst="rightArrow">
            <a:avLst>
              <a:gd name="adj1" fmla="val 40417"/>
              <a:gd name="adj2" fmla="val 3229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6273600">
            <a:off x="456840" y="2286000"/>
            <a:ext cx="914400" cy="761760"/>
          </a:xfrm>
          <a:prstGeom prst="rightArrow">
            <a:avLst>
              <a:gd name="adj1" fmla="val 40417"/>
              <a:gd name="adj2" fmla="val 3229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91400">
            <a:off x="2514240" y="2133720"/>
            <a:ext cx="914400" cy="761760"/>
          </a:xfrm>
          <a:prstGeom prst="rightArrow">
            <a:avLst>
              <a:gd name="adj1" fmla="val 40417"/>
              <a:gd name="adj2" fmla="val 32299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0772400">
            <a:off x="4952520" y="5866920"/>
            <a:ext cx="914400" cy="762120"/>
          </a:xfrm>
          <a:prstGeom prst="rightArrow">
            <a:avLst>
              <a:gd name="adj1" fmla="val 40417"/>
              <a:gd name="adj2" fmla="val 3228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0720200">
            <a:off x="3580920" y="5866560"/>
            <a:ext cx="914400" cy="762120"/>
          </a:xfrm>
          <a:prstGeom prst="rightArrow">
            <a:avLst>
              <a:gd name="adj1" fmla="val 40417"/>
              <a:gd name="adj2" fmla="val 3228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50021"/>
                </a:solidFill>
                <a:latin typeface="Times New Roman"/>
              </a:rPr>
              <a:t>حل التشف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486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a50021"/>
                </a:solidFill>
                <a:latin typeface="Times New Roman"/>
              </a:rPr>
              <a:t>المعن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548640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a50021"/>
                </a:solidFill>
                <a:latin typeface="Times New Roman"/>
              </a:rPr>
              <a:t>المرس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3549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معلومات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1523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a50021"/>
                </a:solidFill>
                <a:latin typeface="Times New Roman"/>
              </a:rPr>
              <a:t>التشف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14778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لمستقب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324480" y="1295280"/>
            <a:ext cx="2362320" cy="1676520"/>
          </a:xfrm>
          <a:prstGeom prst="downArrowCallout">
            <a:avLst>
              <a:gd name="adj1" fmla="val 35230"/>
              <a:gd name="adj2" fmla="val 35227"/>
              <a:gd name="adj3" fmla="val 16667"/>
              <a:gd name="adj4" fmla="val 6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سائل 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304812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1278000"/>
            <a:ext cx="1828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مسموعة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شفوية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200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1295280"/>
            <a:ext cx="2361960" cy="1676520"/>
          </a:xfrm>
          <a:prstGeom prst="downArrowCallout">
            <a:avLst>
              <a:gd name="adj1" fmla="val 35224"/>
              <a:gd name="adj2" fmla="val 35221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1203480"/>
            <a:ext cx="1828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2- 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مقرؤ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كتابية</a:t>
            </a:r>
            <a:r>
              <a:rPr b="1" lang="ar-SA" sz="3200" spc="-1" strike="noStrike">
                <a:solidFill>
                  <a:srgbClr val="ff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295280"/>
            <a:ext cx="2362320" cy="1676520"/>
          </a:xfrm>
          <a:prstGeom prst="downArrowCallout">
            <a:avLst>
              <a:gd name="adj1" fmla="val 35230"/>
              <a:gd name="adj2" fmla="val 35227"/>
              <a:gd name="adj3" fmla="val 16667"/>
              <a:gd name="adj4" fmla="val 6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353960"/>
            <a:ext cx="182880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99"/>
                </a:solidFill>
                <a:latin typeface="Times New Roman"/>
              </a:rPr>
              <a:t>3- </a:t>
            </a:r>
            <a:r>
              <a:rPr b="1" lang="ar-SA" sz="3600" spc="-1" strike="noStrike">
                <a:solidFill>
                  <a:srgbClr val="ff3399"/>
                </a:solidFill>
                <a:latin typeface="Times New Roman"/>
              </a:rPr>
              <a:t>مرئية</a:t>
            </a:r>
            <a:r>
              <a:rPr b="1" lang="ar-SA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04812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601992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502920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4038480"/>
            <a:ext cx="2514600" cy="83844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04812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411480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5105520"/>
            <a:ext cx="2514600" cy="990360"/>
          </a:xfrm>
          <a:prstGeom prst="roundRect">
            <a:avLst>
              <a:gd name="adj" fmla="val 16667"/>
            </a:avLst>
          </a:prstGeom>
          <a:solidFill>
            <a:srgbClr val="eef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5181480"/>
            <a:ext cx="2514600" cy="1676520"/>
          </a:xfrm>
          <a:prstGeom prst="roundRect">
            <a:avLst>
              <a:gd name="adj" fmla="val 16667"/>
            </a:avLst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411480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9efa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971800"/>
            <a:ext cx="2362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فردية</a:t>
            </a: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من شخص لآخ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03848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مجموع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المقاب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عام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Times New Roman"/>
              </a:rPr>
              <a:t>مذياع- تسجي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1240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Times New Roman"/>
              </a:rPr>
              <a:t>الانشطة العلم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4191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Times New Roman"/>
              </a:rPr>
              <a:t>التلفزيو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5181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Times New Roman"/>
              </a:rPr>
              <a:t>التصوي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612612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50021"/>
                </a:solidFill>
                <a:latin typeface="Times New Roman"/>
              </a:rPr>
              <a:t>المعارض- الانترن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5334120"/>
            <a:ext cx="2361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مطبوع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صحف- مجل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4267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تقاري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3200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خطاب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76320" y="7128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7696080" y="92160"/>
            <a:ext cx="1219320" cy="1203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7878600" y="5715000"/>
            <a:ext cx="1189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 rot="145800">
            <a:off x="2057400" y="6516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أساليب الاتصا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5029200" y="1447920"/>
            <a:ext cx="2590920" cy="1828800"/>
          </a:xfrm>
          <a:custGeom>
            <a:avLst/>
            <a:gdLst>
              <a:gd name="textAreaLeft" fmla="*/ 647640 w 2590920"/>
              <a:gd name="textAreaRight" fmla="*/ 1943280 w 25909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d28cd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1447920"/>
            <a:ext cx="1371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Times New Roman"/>
                <a:ea typeface="PT Bold Stars"/>
              </a:rPr>
              <a:t> </a:t>
            </a:r>
            <a:r>
              <a:rPr b="0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حيث</a:t>
            </a:r>
            <a:r>
              <a:rPr b="0" lang="ar-SA" sz="2800" spc="-1" strike="noStrike">
                <a:solidFill>
                  <a:srgbClr val="0033cc"/>
                </a:solidFill>
                <a:latin typeface="Times New Roman"/>
                <a:ea typeface="PT Bold Sta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الاتصا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96080" y="1371600"/>
            <a:ext cx="1447920" cy="1905120"/>
          </a:xfrm>
          <a:prstGeom prst="ellipse">
            <a:avLst/>
          </a:prstGeom>
          <a:gradFill rotWithShape="0">
            <a:gsLst>
              <a:gs pos="0">
                <a:srgbClr val="dd5fd1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96080" y="19051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مباش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1371600"/>
            <a:ext cx="1447920" cy="1905120"/>
          </a:xfrm>
          <a:prstGeom prst="ellipse">
            <a:avLst/>
          </a:prstGeom>
          <a:gradFill rotWithShape="0">
            <a:gsLst>
              <a:gs pos="0">
                <a:srgbClr val="dd5fd1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1523880"/>
            <a:ext cx="1143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غي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مباش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4343400"/>
            <a:ext cx="2590920" cy="1828800"/>
          </a:xfrm>
          <a:custGeom>
            <a:avLst/>
            <a:gdLst>
              <a:gd name="textAreaLeft" fmla="*/ 647640 w 2590920"/>
              <a:gd name="textAreaRight" fmla="*/ 1943280 w 25909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d28cd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4343400"/>
            <a:ext cx="10666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PT Bold Stars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حيث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ea typeface="PT Bold Sta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PT Bold Stars"/>
              </a:rPr>
              <a:t>الاتجا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267080"/>
            <a:ext cx="1447560" cy="1905120"/>
          </a:xfrm>
          <a:prstGeom prst="ellipse">
            <a:avLst/>
          </a:prstGeom>
          <a:gradFill rotWithShape="0">
            <a:gsLst>
              <a:gs pos="0">
                <a:srgbClr val="dd5fd1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2133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تجاه</a:t>
            </a: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واح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267080"/>
            <a:ext cx="1447560" cy="1905120"/>
          </a:xfrm>
          <a:prstGeom prst="ellipse">
            <a:avLst/>
          </a:prstGeom>
          <a:gradFill rotWithShape="0">
            <a:gsLst>
              <a:gs pos="0">
                <a:srgbClr val="dd5fd1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4343400"/>
            <a:ext cx="1371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ف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a50021"/>
                </a:solidFill>
                <a:latin typeface="Times New Roman"/>
              </a:rPr>
              <a:t>اتجاه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75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75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75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75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75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75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75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0T21:10:53Z</dcterms:created>
  <dc:creator>Welcome</dc:creator>
  <dc:description/>
  <dc:language>en-US</dc:language>
  <cp:lastModifiedBy>dell</cp:lastModifiedBy>
  <dcterms:modified xsi:type="dcterms:W3CDTF">2006-08-07T20:50:49Z</dcterms:modified>
  <cp:revision>17</cp:revision>
  <dc:subject/>
  <dc:title>عرض تقديمي من PowerPoint</dc:title>
</cp:coreProperties>
</file>