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4.jpeg" ContentType="image/jpeg"/>
  <Override PartName="/ppt/media/image31.jpeg" ContentType="image/jpeg"/>
  <Override PartName="/ppt/media/image2.png" ContentType="image/png"/>
  <Override PartName="/ppt/media/image26.jpeg" ContentType="image/jpeg"/>
  <Override PartName="/ppt/media/image5.jpeg" ContentType="image/jpeg"/>
  <Override PartName="/ppt/media/image6.png" ContentType="image/png"/>
  <Override PartName="/ppt/media/image7.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9.png" ContentType="image/png"/>
  <Override PartName="/ppt/media/image30.jpeg" ContentType="image/jpeg"/>
  <Override PartName="/ppt/media/image20.jpeg" ContentType="image/jpeg"/>
  <Override PartName="/ppt/media/image3.png" ContentType="image/png"/>
  <Override PartName="/ppt/media/image1.jpeg" ContentType="image/jpeg"/>
  <Override PartName="/ppt/media/image10.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8.jpeg" ContentType="image/jpeg"/>
  <Override PartName="/ppt/media/image25.png" ContentType="image/png"/>
  <Override PartName="/ppt/media/image19.jpeg" ContentType="image/jpeg"/>
  <Override PartName="/ppt/media/image21.jpeg" ContentType="image/jpeg"/>
  <Override PartName="/ppt/media/image24.jpeg" ContentType="image/jpeg"/>
  <Override PartName="/ppt/media/image22.png" ContentType="image/png"/>
  <Override PartName="/ppt/media/image12.png" ContentType="image/png"/>
  <Override PartName="/ppt/media/image23.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move the slide</a:t>
            </a:r>
            <a:endParaRPr b="0" lang="en-US" sz="3600" spc="-1" strike="noStrike">
              <a:solidFill>
                <a:srgbClr val="04617b"/>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5551-FE3F-4092-9C75-FCF6778FAB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ksi</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BAA9-CD28-45C9-8541-A0682F076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725BF-1670-4379-9A17-DDFF4764A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85A8A-202C-4017-B984-501E6B7AF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24380D-9D7D-4D8A-90EA-141F4FDF06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AA6775-6391-4113-B6EC-34EEE01D9D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7D7563-A6DB-4B08-B490-BB565BFF76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C7A387-FF80-479E-851D-C0E6605F5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41746-6815-45AF-8F7D-944E5ED78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25289D-A275-4F54-B16A-F19D855F5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45831D-8D9A-4861-B800-053E0B5CAB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9FBE77-177A-4556-A30C-39513D4F96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6281D1-A24D-43F9-9F4B-6C38894C59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E44FE-14AF-4B8B-BDD2-F3CFA85C6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3BA9F-53A1-4730-BB29-335AE43DE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23093-BEFB-4E64-B18B-F51BAC1D4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2933E-F1AF-4A4E-9C42-4F5DE0435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C19DE-F7C7-49A0-917A-BAF84EC73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7200F-9E03-48CD-8F93-AEAF9D817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EF2B4-DE83-4B21-9CC0-34A78140B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EF9D9-D9B4-4116-B96C-4458AE309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BD07D-043C-4FCB-843F-55FB2D93D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24BAD-33E8-4640-B0C4-4244711A3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B1D51-BC4F-4C47-A381-08D9FB40F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1051D-026C-4DE2-AE8A-F08C35792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DBF07-4801-4EC7-800E-4EBF9B4E0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D5890-0998-4333-99BB-9027F790E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D6542-D3C3-475D-BE8B-8F24BFFC1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2A1046-BA7A-46F3-AC36-65EE2819C2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DCDB5-B90A-43E9-8C2A-EA4C07DC0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A0934-767F-476A-A594-FF78735C7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6B744E-193D-439B-A8C5-875219410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D5394E-C6E6-470A-AD4C-FF49554CC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AAFFA-3501-459A-BCF0-60F62AEE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D5FA3-3EF7-4382-B74E-2A31F39673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A3494-AD74-4520-B44E-4C9380225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91495-6B49-446F-A791-3668ACAD5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25472-DD23-449B-BDC3-F89EEEC94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93816-EFBD-4607-A43E-0D9648BDA5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64BB02-B0F3-4583-A57E-CCE4D9E95A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1D932-73B2-4BA1-AA6A-931C4B9F5C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A5B0D9-DC51-45ED-A6D9-EB4041BC5E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E14491-8C87-480F-AEF0-B30101755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9CC35-8779-4414-BCD7-755954FB2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843C6-8A97-484F-9F0A-888795CB5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E5FF8-13B6-4183-A9A8-54AA65AE8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3F9EFB-A446-487C-B17A-73DFFE08B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5EBCF2-BF15-40EB-B45F-E2CF2859D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3CCE6-612E-4FE3-A175-04C41EE6F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8AB62-8324-4D8C-9469-3161A5251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5D8E0-66ED-4340-8C4D-44296626A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AC5B1-8FC4-4F3F-9D1B-065F21CCA6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17D5F9-0263-4690-83BA-8220AD13C6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550A2F-6998-4134-82FA-A518F840A2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FF57EA-31A9-4F12-9108-7299AFE837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C78EE-4E19-44D2-9577-B12413EDE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0EA4EB-2DF4-48F8-81D2-87CE62CF1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E11B9E-6457-4699-BCB5-92B377E1B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69B16D-1410-4339-8B5A-62508114AB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96A081-B308-492A-ABF5-075555D8B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A3097-9675-47AC-B3AA-91ACA2C2B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574C0-9185-40F8-922B-C3E5DC36A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506EC-DDEC-4680-804D-1630CFA5F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F124F-7A4F-41C0-AD90-C54AF17E7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8D48EC-65AC-404C-A856-F120B8DC34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AF8EF7-502A-4193-8D87-E28012C804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02ACF-24D6-4324-A4A0-B80B39535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9FEA2A-A920-4597-9457-EE2DEBD2EA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011732-D186-47E2-A54B-8F9B9DB434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251C3E-F779-4D0E-A6E5-61AF57B42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CBDF36-E837-458E-9A7A-C00D5A878F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9EFCF0-3EF9-412A-BC90-5548AD605E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F0E289-9D26-42BD-93F0-E83A3E4BBC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F4CF9F-5860-4823-B3A7-30211DDF67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D0CE9-69BF-468B-8E68-B68109EA4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B593A-764A-4D9A-A5A8-016E9695C3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F5711-E900-4964-88AA-BE09D207F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F3B9-50E1-4544-A9C7-D3F46AAD0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D6A23-E722-4785-8F9F-56E1E75A20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5C3CAE-AFBF-4EFB-A0E5-7035CAC785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11146D-1988-4CF5-88CD-D6FAAA45F9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986A2C-C9C8-406B-9906-503DA9123C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92BED5-963F-462F-8D2C-1035A1556F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A486A5-424E-4CE8-A8FE-AC53DAD5D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19DD78-85D9-456F-8B26-47571DE5F5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E5940-41EC-4E04-A70C-B5D4A10AD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EF2EF6-0AE4-4D57-8917-B3CC4C7E03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BE86D-BE58-4818-8270-6771A89301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53A2D-C533-43C0-9D0A-C33465E7B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ED744-EBBD-4B17-960A-6DA8684A1B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D2B03-787A-49B7-9FED-38C981ABE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01A9A8-A49A-4544-A52A-B8011A51B9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6544A1-0292-4DB6-8D8E-DE6BF4F79F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578243-211D-483B-BF41-6DF9DB0C20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B996A1-0208-4AC7-BC61-2558A4290C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50FB8C-3D5D-49C9-8AD5-55C5F2831D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742E06-9FC1-4A1A-8B4E-EDC3BEC9CF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9A78A1-BB25-40CB-B239-5DFB835389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C3E058-5BA5-49C8-B46E-BAA137645E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FC083-0FDB-4D7E-ADFE-15917F43D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A2381C-FB3D-4D48-B2DF-EA8CB22C9E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930EB5-7673-44F2-9343-568AB11D1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AA1D1-451A-4CC3-8030-457C169290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491E9-5706-4FFE-A8F8-E231830A9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A3E488-7962-4DEE-A912-0EC4499CBC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DF08F8-2EEA-4686-A013-63BC8BE39E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A4672C-2103-40D8-B6EE-4865488247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05720F-F7E2-4F17-828F-6D79F569D0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459727-FD6C-4F7A-BB96-43F751416D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899CD9-072F-49A9-9EAC-62BDDDB25D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F5E3-9EA1-4229-A7AB-1E2AD126A5DC}"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B25A-F920-493F-BA0A-012589CC9FE0}"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F3DD-C65D-4FEA-A1FC-180E1E367306}"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96EB-6D49-47F4-A1A4-9D1148F7C146}"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1644-51DF-4550-AA95-4E7FA2174BA3}"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AD9F-401C-4D5B-8648-D9DB29BB5919}"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9B48-C837-451A-9EA7-8C524E0FB518}"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4824-7606-47AE-AB02-3066F724DA9B}"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D488-EBCA-4C6B-A669-BCBFD1303206}"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F:\foto\Ko5MoMYxlx.jpg"/>
          <p:cNvPicPr/>
          <p:nvPr/>
        </p:nvPicPr>
        <p:blipFill>
          <a:blip r:embed="rId1"/>
          <a:stretch/>
        </p:blipFill>
        <p:spPr>
          <a:xfrm>
            <a:off x="0" y="0"/>
            <a:ext cx="6858000" cy="6858000"/>
          </a:xfrm>
          <a:prstGeom prst="rect">
            <a:avLst/>
          </a:prstGeom>
          <a:ln w="0">
            <a:noFill/>
          </a:ln>
        </p:spPr>
      </p:pic>
      <p:pic>
        <p:nvPicPr>
          <p:cNvPr id="407" name="Rectangle 4" descr=""/>
          <p:cNvPicPr/>
          <p:nvPr/>
        </p:nvPicPr>
        <p:blipFill>
          <a:blip r:embed="rId2"/>
          <a:stretch/>
        </p:blipFill>
        <p:spPr>
          <a:xfrm>
            <a:off x="3882960" y="1163520"/>
            <a:ext cx="5267520" cy="2841840"/>
          </a:xfrm>
          <a:prstGeom prst="rect">
            <a:avLst/>
          </a:prstGeom>
          <a:ln w="0">
            <a:noFill/>
          </a:ln>
        </p:spPr>
      </p:pic>
      <p:pic>
        <p:nvPicPr>
          <p:cNvPr id="408" name="Rectangle 5" descr=""/>
          <p:cNvPicPr/>
          <p:nvPr/>
        </p:nvPicPr>
        <p:blipFill>
          <a:blip r:embed="rId3"/>
          <a:stretch/>
        </p:blipFill>
        <p:spPr>
          <a:xfrm>
            <a:off x="4022640" y="5877000"/>
            <a:ext cx="4908600" cy="596880"/>
          </a:xfrm>
          <a:prstGeom prst="rect">
            <a:avLst/>
          </a:prstGeom>
          <a:ln w="0">
            <a:noFill/>
          </a:ln>
        </p:spPr>
      </p:pic>
    </p:spTree>
  </p:cSld>
  <p:transition spd="slow" advTm="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04920" y="2285640"/>
            <a:ext cx="8686800" cy="3794040"/>
          </a:xfrm>
          <a:prstGeom prst="rect">
            <a:avLst/>
          </a:prstGeom>
          <a:noFill/>
          <a:ln w="0">
            <a:noFill/>
          </a:ln>
        </p:spPr>
        <p:txBody>
          <a:bodyPr anchor="t">
            <a:normAutofit fontScale="91000"/>
          </a:bodyPr>
          <a:p>
            <a:pPr marL="468000" indent="-468000">
              <a:spcBef>
                <a:spcPts val="799"/>
              </a:spcBef>
              <a:buClr>
                <a:srgbClr val="0f6fc6"/>
              </a:buClr>
              <a:buSzPct val="70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mimpin (leader role)</a:t>
            </a:r>
            <a:endParaRPr b="0" lang="en-US" sz="3200" spc="-1" strike="noStrike">
              <a:solidFill>
                <a:srgbClr val="04617b"/>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bertanggung jawab atas lancar tidaknya pekerjaan yang dilakukan oleh bawahannya, penentuan kebijaksanaan, perencanaan, pengorganisasian, pergerakan, pengawasan dan kepemimpinan, untuk memotivasi karyawannya agar giat bekerja.</a:t>
            </a:r>
            <a:endParaRPr b="0" lang="en-US" sz="3200" spc="-1" strike="noStrike">
              <a:solidFill>
                <a:srgbClr val="04617b"/>
              </a:solidFill>
              <a:latin typeface="Franklin Gothic Book"/>
            </a:endParaRPr>
          </a:p>
          <a:p>
            <a:pPr marL="468000" indent="-4680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pic>
        <p:nvPicPr>
          <p:cNvPr id="430" name="Picture 2" descr="F:\foto\images43.jpg"/>
          <p:cNvPicPr/>
          <p:nvPr/>
        </p:nvPicPr>
        <p:blipFill>
          <a:blip r:embed="rId1"/>
          <a:stretch/>
        </p:blipFill>
        <p:spPr>
          <a:xfrm>
            <a:off x="2590920" y="0"/>
            <a:ext cx="380988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04920" y="914040"/>
            <a:ext cx="8686800" cy="516564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nghubung (liaison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enghubung melakukan komunikasi dengan orang-orang di luar jalur komando vertikal, baik secara formal maupun secara tidak formal</a:t>
            </a:r>
            <a:endParaRPr b="0" lang="en-US" sz="3200" spc="-1" strike="noStrike">
              <a:solidFill>
                <a:srgbClr val="04617b"/>
              </a:solidFill>
              <a:latin typeface="Franklin Gothic Book"/>
            </a:endParaRPr>
          </a:p>
        </p:txBody>
      </p:sp>
      <p:pic>
        <p:nvPicPr>
          <p:cNvPr id="432" name="Picture 2" descr="F:\foto\images8.jpg"/>
          <p:cNvPicPr/>
          <p:nvPr/>
        </p:nvPicPr>
        <p:blipFill>
          <a:blip r:embed="rId1"/>
          <a:stretch/>
        </p:blipFill>
        <p:spPr>
          <a:xfrm>
            <a:off x="2438280" y="3809880"/>
            <a:ext cx="5486400" cy="28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33200" y="268200"/>
            <a:ext cx="8864640" cy="1487520"/>
          </a:xfrm>
          <a:prstGeom prst="rect">
            <a:avLst/>
          </a:prstGeom>
          <a:ln w="0">
            <a:noFill/>
          </a:ln>
        </p:spPr>
      </p:pic>
      <p:sp>
        <p:nvSpPr>
          <p:cNvPr id="434" name=""/>
          <p:cNvSpPr txBox="1"/>
          <p:nvPr/>
        </p:nvSpPr>
        <p:spPr>
          <a:xfrm>
            <a:off x="304920" y="1554120"/>
            <a:ext cx="8686800" cy="452592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Monitor (monito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anajer memandang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lingkungannya sebagai sumber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informasi, dan umumnya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informasi adalah bersifat lisan,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desas desus, kabar angin dan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spekulasi</a:t>
            </a:r>
            <a:endParaRPr b="0" lang="en-US" sz="3200" spc="-1" strike="noStrike">
              <a:solidFill>
                <a:srgbClr val="04617b"/>
              </a:solidFill>
              <a:latin typeface="Franklin Gothic Book"/>
            </a:endParaRPr>
          </a:p>
        </p:txBody>
      </p:sp>
      <p:pic>
        <p:nvPicPr>
          <p:cNvPr id="435" name="Picture 3" descr="F:\foto\images14.jpg"/>
          <p:cNvPicPr/>
          <p:nvPr/>
        </p:nvPicPr>
        <p:blipFill>
          <a:blip r:embed="rId2"/>
          <a:stretch/>
        </p:blipFill>
        <p:spPr>
          <a:xfrm>
            <a:off x="6477120" y="1905120"/>
            <a:ext cx="251460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04920" y="837720"/>
            <a:ext cx="8686800" cy="524196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Jurubicara (spokesman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eranannya tidak selamanya secara kontak pribadi, tetapi selalu resmi</a:t>
            </a:r>
            <a:endParaRPr b="0" lang="en-US" sz="3200" spc="-1" strike="noStrike">
              <a:solidFill>
                <a:srgbClr val="04617b"/>
              </a:solidFill>
              <a:latin typeface="Franklin Gothic Book"/>
            </a:endParaRPr>
          </a:p>
        </p:txBody>
      </p:sp>
      <p:pic>
        <p:nvPicPr>
          <p:cNvPr id="437" name="Picture 3" descr="F:\photo\images4.jpg"/>
          <p:cNvPicPr/>
          <p:nvPr/>
        </p:nvPicPr>
        <p:blipFill>
          <a:blip r:embed="rId1"/>
          <a:stretch/>
        </p:blipFill>
        <p:spPr>
          <a:xfrm>
            <a:off x="4038480" y="3429000"/>
            <a:ext cx="4876920" cy="2743200"/>
          </a:xfrm>
          <a:prstGeom prst="rect">
            <a:avLst/>
          </a:prstGeom>
          <a:ln w="0">
            <a:noFill/>
          </a:ln>
        </p:spPr>
      </p:pic>
      <p:pic>
        <p:nvPicPr>
          <p:cNvPr id="438" name="Picture 4" descr="F:\imam16.jpg"/>
          <p:cNvPicPr/>
          <p:nvPr/>
        </p:nvPicPr>
        <p:blipFill>
          <a:blip r:embed="rId2"/>
          <a:stretch/>
        </p:blipFill>
        <p:spPr>
          <a:xfrm>
            <a:off x="554040" y="3236760"/>
            <a:ext cx="3110040" cy="3548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04920" y="2438280"/>
            <a:ext cx="8686800" cy="364176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nyebar (disseminato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enyampaikan informasi mengenai organisasinya kepada khalayak luar, dalam peranannya sebagai penyebar menerima dan menghimpun informasi dari luar kemudian disebarkannya kepada bawahannya.</a:t>
            </a:r>
            <a:endParaRPr b="0" lang="en-US" sz="3200" spc="-1" strike="noStrike">
              <a:solidFill>
                <a:srgbClr val="04617b"/>
              </a:solidFill>
              <a:latin typeface="Franklin Gothic Book"/>
            </a:endParaRPr>
          </a:p>
        </p:txBody>
      </p:sp>
      <p:pic>
        <p:nvPicPr>
          <p:cNvPr id="440" name="Picture 2" descr="F:\foto\images15.jpg"/>
          <p:cNvPicPr/>
          <p:nvPr/>
        </p:nvPicPr>
        <p:blipFill>
          <a:blip r:embed="rId1"/>
          <a:stretch/>
        </p:blipFill>
        <p:spPr>
          <a:xfrm>
            <a:off x="609480" y="304920"/>
            <a:ext cx="411480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133200" y="268200"/>
            <a:ext cx="8864640" cy="1487520"/>
          </a:xfrm>
          <a:prstGeom prst="rect">
            <a:avLst/>
          </a:prstGeom>
          <a:ln w="0">
            <a:noFill/>
          </a:ln>
        </p:spPr>
      </p:pic>
      <p:sp>
        <p:nvSpPr>
          <p:cNvPr id="442" name=""/>
          <p:cNvSpPr txBox="1"/>
          <p:nvPr/>
        </p:nvSpPr>
        <p:spPr>
          <a:xfrm>
            <a:off x="457200" y="1828440"/>
            <a:ext cx="8229600" cy="429732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wiraswasta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entrepreneu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engambil prakarsa untuk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engembangkan sebuah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royek yang diawasinya</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sendiri atau  didelegasikan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kepada bawahannya.</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pic>
        <p:nvPicPr>
          <p:cNvPr id="443" name="Picture 4" descr="F:\imam12.jpg"/>
          <p:cNvPicPr/>
          <p:nvPr/>
        </p:nvPicPr>
        <p:blipFill>
          <a:blip r:embed="rId2"/>
          <a:stretch/>
        </p:blipFill>
        <p:spPr>
          <a:xfrm>
            <a:off x="5943600" y="1905120"/>
            <a:ext cx="3048120" cy="3962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114440" y="533160"/>
            <a:ext cx="4876920" cy="5546520"/>
          </a:xfrm>
          <a:prstGeom prst="rect">
            <a:avLst/>
          </a:prstGeom>
          <a:noFill/>
          <a:ln w="0">
            <a:noFill/>
          </a:ln>
        </p:spPr>
        <p:txBody>
          <a:bodyPr anchor="t">
            <a:normAutofit fontScale="90000"/>
          </a:bodyPr>
          <a:p>
            <a:pPr marL="462960" indent="-462960">
              <a:spcBef>
                <a:spcPts val="799"/>
              </a:spcBef>
              <a:buClr>
                <a:srgbClr val="0f6fc6"/>
              </a:buClr>
              <a:buSzPct val="70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ngendali Gangguan </a:t>
            </a:r>
            <a:endParaRPr b="0" lang="en-US" sz="3200" spc="-1" strike="noStrike">
              <a:solidFill>
                <a:srgbClr val="04617b"/>
              </a:solidFill>
              <a:latin typeface="Franklin Gothic Book"/>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disturbance role)</a:t>
            </a:r>
            <a:endParaRPr b="0" lang="en-US" sz="3200" spc="-1" strike="noStrike">
              <a:solidFill>
                <a:srgbClr val="04617b"/>
              </a:solidFill>
              <a:latin typeface="Franklin Gothic Book"/>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anajer dengan sendirinya menanggapi setiap tekanan yang menerima dirinya, karena tekanan situasi tidak mungkin dibiarkan berlarut-larut</a:t>
            </a:r>
            <a:endParaRPr b="0" lang="en-US" sz="3200" spc="-1" strike="noStrike">
              <a:solidFill>
                <a:srgbClr val="04617b"/>
              </a:solidFill>
              <a:latin typeface="Franklin Gothic Book"/>
            </a:endParaRPr>
          </a:p>
        </p:txBody>
      </p:sp>
      <p:pic>
        <p:nvPicPr>
          <p:cNvPr id="445" name="Picture 3" descr="F:\imam11.jpg"/>
          <p:cNvPicPr/>
          <p:nvPr/>
        </p:nvPicPr>
        <p:blipFill>
          <a:blip r:embed="rId1"/>
          <a:stretch/>
        </p:blipFill>
        <p:spPr>
          <a:xfrm>
            <a:off x="76320" y="7632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04920" y="1554120"/>
            <a:ext cx="8686800" cy="452592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nentu Sumber</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resource allocate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adanya tanggung jawab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untuk memutuskan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ekerjaan apa yang harus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dilakukan, siapa yang akan melaksanakan dan bagaimana pembagian pekerjaan dilangsungkan.</a:t>
            </a:r>
            <a:endParaRPr b="0" lang="en-US" sz="3200" spc="-1" strike="noStrike">
              <a:solidFill>
                <a:srgbClr val="04617b"/>
              </a:solidFill>
              <a:latin typeface="Franklin Gothic Book"/>
            </a:endParaRPr>
          </a:p>
        </p:txBody>
      </p:sp>
      <p:pic>
        <p:nvPicPr>
          <p:cNvPr id="447" name="Picture 4" descr="F:\imam24.jpg"/>
          <p:cNvPicPr/>
          <p:nvPr/>
        </p:nvPicPr>
        <p:blipFill>
          <a:blip r:embed="rId1"/>
          <a:stretch/>
        </p:blipFill>
        <p:spPr>
          <a:xfrm>
            <a:off x="5562720" y="228600"/>
            <a:ext cx="3352680" cy="42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F:\imam25.jpg"/>
          <p:cNvPicPr/>
          <p:nvPr/>
        </p:nvPicPr>
        <p:blipFill>
          <a:blip r:embed="rId1"/>
          <a:stretch/>
        </p:blipFill>
        <p:spPr>
          <a:xfrm>
            <a:off x="457200" y="380880"/>
            <a:ext cx="822960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04920" y="533160"/>
            <a:ext cx="8686800" cy="480060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runding (negotiato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Studi mengenai karya manajerial dalam taraf apapun menunjukkan bahwa para manajer menggunakan waktunya yang banyak untuk perundingan. Perundingan merupakan “gaya hidup” (way of life) karena untuk menangani sumber-sumber organisasi pada waktu yang tepat.</a:t>
            </a:r>
            <a:endParaRPr b="0" lang="en-US" sz="3200" spc="-1" strike="noStrike">
              <a:solidFill>
                <a:srgbClr val="04617b"/>
              </a:solidFill>
              <a:latin typeface="Franklin Gothic Book"/>
            </a:endParaRPr>
          </a:p>
        </p:txBody>
      </p:sp>
      <p:pic>
        <p:nvPicPr>
          <p:cNvPr id="450" name="Picture 3" descr="F:\imam33.jpg"/>
          <p:cNvPicPr/>
          <p:nvPr/>
        </p:nvPicPr>
        <p:blipFill>
          <a:blip r:embed="rId1"/>
          <a:stretch/>
        </p:blipFill>
        <p:spPr>
          <a:xfrm>
            <a:off x="3610080" y="4267080"/>
            <a:ext cx="44672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298440" y="189000"/>
            <a:ext cx="8699400" cy="1689120"/>
          </a:xfrm>
          <a:prstGeom prst="rect">
            <a:avLst/>
          </a:prstGeom>
          <a:ln w="0">
            <a:noFill/>
          </a:ln>
        </p:spPr>
      </p:pic>
      <p:sp>
        <p:nvSpPr>
          <p:cNvPr id="410" name=""/>
          <p:cNvSpPr txBox="1"/>
          <p:nvPr/>
        </p:nvSpPr>
        <p:spPr>
          <a:xfrm>
            <a:off x="152280" y="1882800"/>
            <a:ext cx="8839440" cy="4572000"/>
          </a:xfrm>
          <a:prstGeom prst="rect">
            <a:avLst/>
          </a:prstGeom>
          <a:noFill/>
          <a:ln w="0">
            <a:noFill/>
          </a:ln>
        </p:spPr>
        <p:txBody>
          <a:bodyPr anchor="t">
            <a:normAutofit/>
          </a:bodyPr>
          <a:p>
            <a:pPr marL="343080" indent="-343080">
              <a:spcBef>
                <a:spcPts val="700"/>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Franklin Gothic Book"/>
              </a:rPr>
              <a:t>Komunikasi jaringan kerja rantai</a:t>
            </a:r>
            <a:br>
              <a:rPr sz="2800"/>
            </a:br>
            <a:r>
              <a:rPr b="1" lang="en-US" sz="2800" spc="-1" strike="noStrike">
                <a:solidFill>
                  <a:srgbClr val="04617b"/>
                </a:solidFill>
                <a:latin typeface="Franklin Gothic Book"/>
              </a:rPr>
              <a:t>Komunikasi terjadi menurut saluran hirarchi organisasi dengan jaringan komando sehingga mengikuti pola komunikasi formal.</a:t>
            </a:r>
            <a:endParaRPr b="0" lang="en-US" sz="2800" spc="-1" strike="noStrike">
              <a:solidFill>
                <a:srgbClr val="04617b"/>
              </a:solidFill>
              <a:latin typeface="Franklin Gothic Book"/>
            </a:endParaRPr>
          </a:p>
          <a:p>
            <a:pPr marL="343080" indent="-343080">
              <a:spcBef>
                <a:spcPts val="700"/>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Franklin Gothic Book"/>
              </a:rPr>
              <a:t>Komunikasi jaringan kerja lingkaran</a:t>
            </a:r>
            <a:br>
              <a:rPr sz="2800"/>
            </a:br>
            <a:r>
              <a:rPr b="1" lang="en-US" sz="2800" spc="-1" strike="noStrike">
                <a:solidFill>
                  <a:srgbClr val="04617b"/>
                </a:solidFill>
                <a:latin typeface="Franklin Gothic Book"/>
              </a:rPr>
              <a:t>Komunikasi terjadi melalui saluran komunikasi yang berbentuk seperti lingkara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Franklin Gothic Book"/>
              </a:rPr>
              <a:t>Komunikasi jaringan bintang</a:t>
            </a:r>
            <a:br>
              <a:rPr sz="2800"/>
            </a:br>
            <a:r>
              <a:rPr b="1" lang="en-US" sz="2800" spc="-1" strike="noStrike">
                <a:solidFill>
                  <a:srgbClr val="04617b"/>
                </a:solidFill>
                <a:latin typeface="Franklin Gothic Book"/>
              </a:rPr>
              <a:t>Komunikasi ini terjadi melalui satu sentral dan saluran yang dilalui lebih pende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F:\photo imam\imam20.jpg"/>
          <p:cNvPicPr/>
          <p:nvPr/>
        </p:nvPicPr>
        <p:blipFill>
          <a:blip r:embed="rId1"/>
          <a:stretch/>
        </p:blipFill>
        <p:spPr>
          <a:xfrm>
            <a:off x="304920" y="228600"/>
            <a:ext cx="861048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298440" y="268200"/>
            <a:ext cx="8699400" cy="1487520"/>
          </a:xfrm>
          <a:prstGeom prst="rect">
            <a:avLst/>
          </a:prstGeom>
          <a:ln w="0">
            <a:noFill/>
          </a:ln>
        </p:spPr>
      </p:pic>
      <p:sp>
        <p:nvSpPr>
          <p:cNvPr id="412" name=""/>
          <p:cNvSpPr txBox="1"/>
          <p:nvPr/>
        </p:nvSpPr>
        <p:spPr>
          <a:xfrm>
            <a:off x="151920" y="1882800"/>
            <a:ext cx="8991720" cy="4572000"/>
          </a:xfrm>
          <a:prstGeom prst="rect">
            <a:avLst/>
          </a:prstGeom>
          <a:noFill/>
          <a:ln w="0">
            <a:noFill/>
          </a:ln>
        </p:spPr>
        <p:txBody>
          <a:bodyPr anchor="t">
            <a:normAutofit/>
          </a:bodyPr>
          <a:p>
            <a:pPr marL="577800" indent="-51444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Komunikasi antar individu dengan individu yang lain, Komunikasi ini terlaksana baik secara nonformal maupun informal, yang jelas individu yang bertindak sebagai komunikator harus mampu mempengaruhi individu yang lain.</a:t>
            </a:r>
            <a:br>
              <a:rPr sz="3200"/>
            </a:br>
            <a:br>
              <a:rPr sz="3200"/>
            </a:br>
            <a:r>
              <a:rPr b="1" lang="en-US" sz="3200" spc="-1" strike="noStrike">
                <a:solidFill>
                  <a:srgbClr val="04617b"/>
                </a:solidFill>
                <a:latin typeface="Franklin Gothic Book"/>
              </a:rPr>
              <a:t> </a:t>
            </a:r>
            <a:endParaRPr b="0" lang="en-US" sz="3200" spc="-1" strike="noStrike">
              <a:solidFill>
                <a:srgbClr val="04617b"/>
              </a:solidFill>
              <a:latin typeface="Franklin Gothic Book"/>
            </a:endParaRPr>
          </a:p>
          <a:p>
            <a:pPr marL="577800" indent="-5144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pic>
        <p:nvPicPr>
          <p:cNvPr id="413" name="Picture 4" descr="F:\photo\bisnis5.jpg"/>
          <p:cNvPicPr/>
          <p:nvPr/>
        </p:nvPicPr>
        <p:blipFill>
          <a:blip r:embed="rId2"/>
          <a:stretch/>
        </p:blipFill>
        <p:spPr>
          <a:xfrm>
            <a:off x="4668840" y="3822840"/>
            <a:ext cx="3189240" cy="329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3047760"/>
            <a:ext cx="8229600" cy="3406680"/>
          </a:xfrm>
          <a:prstGeom prst="rect">
            <a:avLst/>
          </a:prstGeom>
          <a:noFill/>
          <a:ln w="0">
            <a:noFill/>
          </a:ln>
        </p:spPr>
        <p:txBody>
          <a:bodyPr anchor="t">
            <a:normAutofit fontScale="97000"/>
          </a:bodyPr>
          <a:p>
            <a:pPr marL="560160" indent="-498960">
              <a:spcBef>
                <a:spcPts val="799"/>
              </a:spcBef>
              <a:buClr>
                <a:srgbClr val="0f6fc6"/>
              </a:buClr>
              <a:buSzPct val="70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Komunikasi antar individu dengan lingkungan yang lebih luas</a:t>
            </a:r>
            <a:br>
              <a:rPr sz="3200"/>
            </a:br>
            <a:r>
              <a:rPr b="1" lang="en-US" sz="3200" spc="-1" strike="noStrike">
                <a:solidFill>
                  <a:srgbClr val="04617b"/>
                </a:solidFill>
                <a:latin typeface="Franklin Gothic Book"/>
              </a:rPr>
              <a:t>Komunikasi ini terjadi karena individu yang dimaksud memiliki kemampuan yang tinggi untuk mengadakan hubungan dengan lingkungan yang lebih luas.</a:t>
            </a:r>
            <a:endParaRPr b="0" lang="en-US" sz="3200" spc="-1" strike="noStrike">
              <a:solidFill>
                <a:srgbClr val="04617b"/>
              </a:solidFill>
              <a:latin typeface="Franklin Gothic Book"/>
            </a:endParaRPr>
          </a:p>
        </p:txBody>
      </p:sp>
      <p:pic>
        <p:nvPicPr>
          <p:cNvPr id="415" name="Picture 4" descr="F:\photo\bisnis9.jpg"/>
          <p:cNvPicPr/>
          <p:nvPr/>
        </p:nvPicPr>
        <p:blipFill>
          <a:blip r:embed="rId1"/>
          <a:stretch/>
        </p:blipFill>
        <p:spPr>
          <a:xfrm>
            <a:off x="1371600" y="0"/>
            <a:ext cx="61722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304560"/>
            <a:ext cx="8229600" cy="614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3. </a:t>
            </a:r>
            <a:r>
              <a:rPr b="1" lang="en-US" sz="3200" spc="-1" strike="noStrike">
                <a:solidFill>
                  <a:srgbClr val="04617b"/>
                </a:solidFill>
                <a:latin typeface="Franklin Gothic Book"/>
              </a:rPr>
              <a:t>Komunikasi antar individu dengan dua    </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kelompok atau lebih</a:t>
            </a:r>
            <a:br>
              <a:rPr sz="3200"/>
            </a:br>
            <a:r>
              <a:rPr b="1" lang="en-US" sz="3200" spc="-1" strike="noStrike">
                <a:solidFill>
                  <a:srgbClr val="04617b"/>
                </a:solidFill>
                <a:latin typeface="Franklin Gothic Book"/>
              </a:rPr>
              <a:t> Komunikasi ini individu berperan sebagai  </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erantara antara dua kelompok atau lebih, </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sehingga dituntut kemampuan yang prima </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untuk menjadi penyelaras yang harmonis.</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pic>
        <p:nvPicPr>
          <p:cNvPr id="417" name="Picture 5" descr="F:\photo\bisnis2.jpg"/>
          <p:cNvPicPr/>
          <p:nvPr/>
        </p:nvPicPr>
        <p:blipFill>
          <a:blip r:embed="rId1"/>
          <a:stretch/>
        </p:blipFill>
        <p:spPr>
          <a:xfrm>
            <a:off x="2090880" y="3676680"/>
            <a:ext cx="3608280" cy="332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103320" y="450720"/>
            <a:ext cx="8894520" cy="1152720"/>
          </a:xfrm>
          <a:prstGeom prst="rect">
            <a:avLst/>
          </a:prstGeom>
          <a:ln w="0">
            <a:noFill/>
          </a:ln>
        </p:spPr>
      </p:pic>
      <p:sp>
        <p:nvSpPr>
          <p:cNvPr id="419" name=""/>
          <p:cNvSpPr txBox="1"/>
          <p:nvPr/>
        </p:nvSpPr>
        <p:spPr>
          <a:xfrm>
            <a:off x="304920" y="1554120"/>
            <a:ext cx="8686800" cy="4525920"/>
          </a:xfrm>
          <a:prstGeom prst="rect">
            <a:avLst/>
          </a:prstGeom>
          <a:noFill/>
          <a:ln w="0">
            <a:noFill/>
          </a:ln>
        </p:spPr>
        <p:txBody>
          <a:bodyPr anchor="t">
            <a:normAutofit fontScale="98000"/>
          </a:bodyPr>
          <a:p>
            <a:pPr marL="335880" indent="-335880">
              <a:lnSpc>
                <a:spcPct val="90000"/>
              </a:lnSpc>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aduan dari bagian-bagian yang satu sama lainnya saling bergantung, atau sistem, sarana, dll.</a:t>
            </a:r>
            <a:endParaRPr b="0" lang="en-US" sz="3200" spc="-1" strike="noStrike">
              <a:solidFill>
                <a:srgbClr val="04617b"/>
              </a:solidFill>
              <a:latin typeface="Franklin Gothic Book"/>
            </a:endParaRPr>
          </a:p>
          <a:p>
            <a:pPr marL="335880" indent="-335880">
              <a:lnSpc>
                <a:spcPct val="90000"/>
              </a:lnSpc>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Suatu struktur yang melangsungkan proses pencapaian tujuan yang telah ditetapkan dimana operasi dan interaksi diantara bagian yang satu dengan yang lainnya dan manusia yang satu dengan yang lainnya berjalan secara harmonis, dinamis dan pasti.</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F:\foto\images2.jpg"/>
          <p:cNvPicPr/>
          <p:nvPr/>
        </p:nvPicPr>
        <p:blipFill>
          <a:blip r:embed="rId1"/>
          <a:stretch/>
        </p:blipFill>
        <p:spPr>
          <a:xfrm>
            <a:off x="304920" y="1219320"/>
            <a:ext cx="4495680" cy="2895480"/>
          </a:xfrm>
          <a:prstGeom prst="rect">
            <a:avLst/>
          </a:prstGeom>
          <a:ln w="0">
            <a:noFill/>
          </a:ln>
        </p:spPr>
      </p:pic>
      <p:pic>
        <p:nvPicPr>
          <p:cNvPr id="421" name="Picture 3" descr="F:\photo\bisnis.jpg"/>
          <p:cNvPicPr/>
          <p:nvPr/>
        </p:nvPicPr>
        <p:blipFill>
          <a:blip r:embed="rId2"/>
          <a:stretch/>
        </p:blipFill>
        <p:spPr>
          <a:xfrm>
            <a:off x="304920" y="2971800"/>
            <a:ext cx="5410080" cy="3352680"/>
          </a:xfrm>
          <a:prstGeom prst="rect">
            <a:avLst/>
          </a:prstGeom>
          <a:ln w="0">
            <a:noFill/>
          </a:ln>
        </p:spPr>
      </p:pic>
      <p:sp>
        <p:nvSpPr>
          <p:cNvPr id="422" name="PlaceHolder 1"/>
          <p:cNvSpPr>
            <a:spLocks noGrp="1"/>
          </p:cNvSpPr>
          <p:nvPr>
            <p:ph type="subTitle"/>
          </p:nvPr>
        </p:nvSpPr>
        <p:spPr>
          <a:xfrm>
            <a:off x="5333760" y="990720"/>
            <a:ext cx="3809880" cy="4419360"/>
          </a:xfrm>
          <a:prstGeom prst="rect">
            <a:avLst/>
          </a:prstGeom>
          <a:noFill/>
          <a:ln w="0">
            <a:noFill/>
          </a:ln>
        </p:spPr>
        <p:txBody>
          <a:bodyPr anchor="b">
            <a:noAutofit/>
          </a:bodyPr>
          <a:p>
            <a:pPr>
              <a:spcBef>
                <a:spcPts val="700"/>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46c"/>
                </a:solidFill>
                <a:latin typeface="Franklin Gothic Book"/>
              </a:rPr>
              <a:t>Totalitas himpunan bagian yang satu sama lain berhubungan sedemikian rupa sehingga menjadi suatu kesatuan yang terpadu untuk mencapai tujuan tertentu</a:t>
            </a:r>
            <a:endParaRPr b="0" lang="en-US" sz="2800" spc="-1" strike="noStrike">
              <a:solidFill>
                <a:srgbClr val="04617b"/>
              </a:solidFill>
              <a:latin typeface="Franklin Gothic Book"/>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133200" y="268200"/>
            <a:ext cx="8864640" cy="1487520"/>
          </a:xfrm>
          <a:prstGeom prst="rect">
            <a:avLst/>
          </a:prstGeom>
          <a:ln w="0">
            <a:noFill/>
          </a:ln>
        </p:spPr>
      </p:pic>
      <p:sp>
        <p:nvSpPr>
          <p:cNvPr id="424" name=""/>
          <p:cNvSpPr txBox="1"/>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75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Interaksi yang harmonis diantara</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para karyawan suatu organisasi, </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baik dalam hubungan secara</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timbal balik maupun horizontal </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diantara para karyawan secara </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timbal balik pula  disebabkan komunikasi</a:t>
            </a:r>
            <a:endParaRPr b="0" lang="en-US" sz="3000" spc="-1" strike="noStrike">
              <a:solidFill>
                <a:srgbClr val="04617b"/>
              </a:solidFill>
              <a:latin typeface="Franklin Gothic Book"/>
            </a:endParaRPr>
          </a:p>
          <a:p>
            <a:pPr marL="332640" indent="-332640">
              <a:lnSpc>
                <a:spcPct val="90000"/>
              </a:lnSpc>
              <a:spcBef>
                <a:spcPts val="75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Interaksi antara pimpinan organisasi, manajer tingkat tinggi, manajer tingkat menengah dengan khalayak luar organisasi</a:t>
            </a:r>
            <a:endParaRPr b="0" lang="en-US" sz="3000" spc="-1" strike="noStrike">
              <a:solidFill>
                <a:srgbClr val="04617b"/>
              </a:solidFill>
              <a:latin typeface="Franklin Gothic Book"/>
            </a:endParaRPr>
          </a:p>
        </p:txBody>
      </p:sp>
      <p:pic>
        <p:nvPicPr>
          <p:cNvPr id="425" name="Picture 2" descr="F:\photo\bisnis6.jpg"/>
          <p:cNvPicPr/>
          <p:nvPr/>
        </p:nvPicPr>
        <p:blipFill>
          <a:blip r:embed="rId2"/>
          <a:stretch/>
        </p:blipFill>
        <p:spPr>
          <a:xfrm>
            <a:off x="6272280" y="950760"/>
            <a:ext cx="2921040" cy="32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133200" y="268200"/>
            <a:ext cx="8864640" cy="1487520"/>
          </a:xfrm>
          <a:prstGeom prst="rect">
            <a:avLst/>
          </a:prstGeom>
          <a:ln w="0">
            <a:noFill/>
          </a:ln>
        </p:spPr>
      </p:pic>
      <p:sp>
        <p:nvSpPr>
          <p:cNvPr id="427" name=""/>
          <p:cNvSpPr txBox="1"/>
          <p:nvPr/>
        </p:nvSpPr>
        <p:spPr>
          <a:xfrm>
            <a:off x="3352680" y="1554120"/>
            <a:ext cx="5639040" cy="4525920"/>
          </a:xfrm>
          <a:prstGeom prst="rect">
            <a:avLst/>
          </a:prstGeom>
          <a:noFill/>
          <a:ln w="0">
            <a:noFill/>
          </a:ln>
        </p:spPr>
        <p:txBody>
          <a:bodyPr anchor="t">
            <a:normAutofit fontScale="95000"/>
          </a:bodyPr>
          <a:p>
            <a:pPr marL="488520" indent="-48852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Tokoh </a:t>
            </a:r>
            <a:endParaRPr b="0" lang="en-US" sz="3200" spc="-1" strike="noStrike">
              <a:solidFill>
                <a:srgbClr val="04617b"/>
              </a:solidFill>
              <a:latin typeface="Franklin Gothic Book"/>
            </a:endParaRPr>
          </a:p>
          <a:p>
            <a:pPr marL="488520" indent="-48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figurehead role)</a:t>
            </a:r>
            <a:endParaRPr b="0" lang="en-US" sz="3200" spc="-1" strike="noStrike">
              <a:solidFill>
                <a:srgbClr val="04617b"/>
              </a:solidFill>
              <a:latin typeface="Franklin Gothic Book"/>
            </a:endParaRPr>
          </a:p>
          <a:p>
            <a:pPr marL="488520" indent="-48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Kepala suatu unit organisasi, dimana manajer tampil sebagai komunikator untuk memberikan penerangan, penjelasan, imbauan, ajakan, dll</a:t>
            </a:r>
            <a:endParaRPr b="0" lang="en-US" sz="3200" spc="-1" strike="noStrike">
              <a:solidFill>
                <a:srgbClr val="04617b"/>
              </a:solidFill>
              <a:latin typeface="Franklin Gothic Book"/>
            </a:endParaRPr>
          </a:p>
        </p:txBody>
      </p:sp>
      <p:pic>
        <p:nvPicPr>
          <p:cNvPr id="428" name="Picture 3" descr="F:\foto\buku19.jpg"/>
          <p:cNvPicPr/>
          <p:nvPr/>
        </p:nvPicPr>
        <p:blipFill>
          <a:blip r:embed="rId2"/>
          <a:stretch/>
        </p:blipFill>
        <p:spPr>
          <a:xfrm>
            <a:off x="228600" y="1828800"/>
            <a:ext cx="32004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13:48:27Z</dcterms:created>
  <dc:creator>Ratri</dc:creator>
  <dc:description/>
  <dc:language>en-US</dc:language>
  <cp:lastModifiedBy>Ratri</cp:lastModifiedBy>
  <dcterms:modified xsi:type="dcterms:W3CDTF">2012-01-03T12:05:14Z</dcterms:modified>
  <cp:revision>28</cp:revision>
  <dc:subject/>
  <dc:title>Slide 1</dc:title>
</cp:coreProperties>
</file>