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A814-9C07-4209-82B1-2A53E04D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3FEE-7B4E-4368-8150-F4B609C5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FD20-9AFF-4044-8C5C-7C64FE2EE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29B0-4046-4337-B4F4-35621D52B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0C7E-1711-4F7D-AA94-A648CB8C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D138-BFC5-4226-905B-E5F54A45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750C-951B-43CC-A139-3556D7A8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F308-3BFC-492C-9F5A-A31A681C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9342-46C4-4DDC-8EB6-A5778685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6655-D57D-4361-915D-26D16B8C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2FD9-D961-47DB-9DAA-6965C591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A491-97B7-4A6D-8A0A-4BB120B5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B85D5D-8011-492E-883E-3FEE3EB7DB0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9EA28F-474D-4FE4-B2E6-0C9CC5C281BE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5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5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06:28:53Z</dcterms:created>
  <dc:creator>최봉수</dc:creator>
  <dc:description/>
  <dc:language>en-US</dc:language>
  <cp:lastModifiedBy>맛있다 군만두</cp:lastModifiedBy>
  <dcterms:modified xsi:type="dcterms:W3CDTF">2023-07-13T06:56:40Z</dcterms:modified>
  <cp:revision>5</cp:revision>
  <dc:subject/>
  <dc:title>슬라이드 1</dc:title>
</cp:coreProperties>
</file>