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5EC-02A5-4353-8675-0630D450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109-810B-4C6E-867A-AA16E291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ECE-DEB1-4D9C-B8DB-4E7C6BAC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352-FA79-4DEE-8C2E-F290D7E7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598-3E81-42BE-B17E-645C5C58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532-87E0-49F7-932A-12896C2C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F78-4BCB-40FC-A71E-6B84C28F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523-1A92-4D08-8526-8ABEFD99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CBC-3880-42F8-816C-A1F468CA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F18-627B-4038-A80B-24B7D818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750-25FA-4F23-A2EE-C91C6022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FF1-29FE-41B0-A7E8-FB2A56BC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9A580-DCB5-4681-9E1E-6C6B8CB463D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6C9B5-0CF6-49D2-B93F-5EACC7AE6A5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6:28:53Z</dcterms:created>
  <dc:creator>최봉수</dc:creator>
  <dc:description/>
  <dc:language>en-US</dc:language>
  <cp:lastModifiedBy>맛있다 군만두</cp:lastModifiedBy>
  <dcterms:modified xsi:type="dcterms:W3CDTF">2023-07-13T06:56:40Z</dcterms:modified>
  <cp:revision>5</cp:revision>
  <dc:subject/>
  <dc:title>슬라이드 1</dc:title>
</cp:coreProperties>
</file>