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15C3-8F87-4970-ADB5-2F0A533469C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71A4-B47B-4AAF-97C0-AF42B42A2AE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1D32-5BD6-40AE-B6FA-5E0E711B418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4B71-189D-4A43-A087-873292C4DE8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9AC1-5DFE-4401-A526-35C313913E2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C54E-40ED-4782-8824-32300361C0B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131C-DFA4-4FD6-920E-E8A36BE28DA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A3E6-C091-485E-8007-09BE19935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E123-E5E7-4B83-A443-EE13E6710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DCEA-4072-4103-93CE-D4C333F45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E05C-2509-47E9-990E-703B72184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D74F-C316-4B8B-A9D6-690FBA3DB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5D10-E67A-4864-B083-E0557A908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6CAD-851C-4D01-8B70-571E2FFEA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AA6A-78D2-4651-B951-2C578BA3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E845-CE3A-4108-91C9-54A45426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D951-EB5E-4354-9B6C-5149D8F9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83DB-1A7E-462A-ADC0-72874D24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7070-2109-452F-89A8-DF60F4A3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05E5-AEAE-4D42-9B07-A00E6877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4587-FF22-46E1-B839-8EE6AA54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28BF-B6AF-44A6-B235-5A585D0A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1938-770F-4C56-91B7-4A2C225C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4AF6-AE54-4087-90A0-B8F14321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DCF5-B19F-4CA0-9D8A-A0EB296E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4E37-123A-46DA-B325-C342507C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4A22-6B6B-4787-BF88-D5696958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E5F0-CC22-46F9-BA91-C19E8319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920B-A9B1-40A7-8B9B-0284AF7F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0BE8-8FDC-4AA1-A246-D409D10F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1597-B646-400A-B399-1021A609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7DBD-C68E-4569-9D42-EF5463A1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503C-3066-481F-B710-86945AE0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5FD8-8C87-4171-AF90-46E701BA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D17B-9F74-47B1-B8F2-5E8CD319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6262-1F2E-4643-BBC1-FC208854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2519-AC8B-467C-A8E2-E13AD473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6C2-5BF6-47ED-BA01-4591B024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447A-5C23-47B9-9FC6-D5E40950BFC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3E41-5B58-4018-8A6D-E0724EDCCF0E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A289-C2AA-46A5-9A6B-A3D518F7F34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صر نائب للتاريخ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F7BF-9028-46B2-9FB3-6CC7B55BAAF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عنصر نائب للتذييل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4C04-074B-4056-AF20-C7F7F4F2AE4E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Imam Logo"/>
          <p:cNvPicPr/>
          <p:nvPr/>
        </p:nvPicPr>
        <p:blipFill>
          <a:blip r:embed="rId1"/>
          <a:stretch/>
        </p:blipFill>
        <p:spPr>
          <a:xfrm>
            <a:off x="2666880" y="914400"/>
            <a:ext cx="3314880" cy="4686480"/>
          </a:xfrm>
          <a:prstGeom prst="rect">
            <a:avLst/>
          </a:prstGeom>
          <a:ln w="0">
            <a:noFill/>
          </a:ln>
        </p:spPr>
      </p:pic>
      <p:sp>
        <p:nvSpPr>
          <p:cNvPr id="93" name="مستطيل 5"/>
          <p:cNvSpPr/>
          <p:nvPr/>
        </p:nvSpPr>
        <p:spPr>
          <a:xfrm>
            <a:off x="0" y="457200"/>
            <a:ext cx="914400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1f497d"/>
                </a:solidFill>
                <a:latin typeface="Times New Roman"/>
                <a:cs typeface="Times New Roman"/>
              </a:rPr>
              <a:t>بسم الله الرحمن الرحي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stellar"/>
              </a:rPr>
              <a:t>Al-Imam Mohammed Bin Saud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stellar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stellar"/>
              </a:rPr>
              <a:t>College of 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F2CB-0465-485E-B83D-258698E4284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872E-8A7B-4861-84CD-B4B832522173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4582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75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f6228"/>
                </a:solidFill>
                <a:latin typeface="Calibri"/>
              </a:rPr>
              <a:t>Vancomyci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resistant Enterococcus spp. (VRE). These strains are resistant to all anti-Enterococcus drugs including vancomycin. Enterococcus spp. are also common nosocomial infections especially for urinary tract infec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75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f6228"/>
                </a:solidFill>
                <a:latin typeface="Calibri"/>
              </a:rPr>
              <a:t>Multi-drug-resistant Mycobacterium tuberculosis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MRTB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75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f6228"/>
                </a:solidFill>
                <a:latin typeface="Calibri"/>
              </a:rPr>
              <a:t>Multi-drug-resistant strains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f Pseudomonas spp., Salmonella spp. Shigella spp. and Neisseria gonorrhoea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75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f6228"/>
                </a:solidFill>
                <a:latin typeface="Calibri"/>
              </a:rPr>
              <a:t>Beta-lactamase producing strains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f Streptococcus pneumoniae and Haemophilus influenz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57200" y="380880"/>
            <a:ext cx="82296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Line 2"/>
          <p:cNvSpPr/>
          <p:nvPr/>
        </p:nvSpPr>
        <p:spPr>
          <a:xfrm>
            <a:off x="179280" y="735120"/>
            <a:ext cx="8785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73080" y="125280"/>
            <a:ext cx="907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Antibiotic resistance follows their introduction into therapy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31760" y="914400"/>
          <a:ext cx="8871120" cy="5578560"/>
        </p:xfrm>
        <a:graphic>
          <a:graphicData uri="http://schemas.openxmlformats.org/drawingml/2006/table">
            <a:tbl>
              <a:tblPr/>
              <a:tblGrid>
                <a:gridCol w="1511280"/>
                <a:gridCol w="1506600"/>
                <a:gridCol w="1246320"/>
                <a:gridCol w="2239920"/>
                <a:gridCol w="2367000"/>
              </a:tblGrid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Anti-infective ag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Discov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introduc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Res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GB" sz="1400" spc="-1" strike="noStrike" baseline="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st</a:t>
                      </a:r>
                      <a:r>
                        <a:rPr b="1" lang="en-GB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 report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Mechanisms of resistanc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Organis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Penicillin G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40 (194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Penicill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S. aure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Streptomy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44 (194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S12 ribosomal mu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M. tuberculo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etracyc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48 (195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Eflfux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Shigella dysenter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Erythromy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52 (195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3S rRNA methy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S. aure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Vancomy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56 (197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88, 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D-Ala-D-Ala replac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E. faecalis, S. aureu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Methicill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59( 196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MecA (PPP2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S. aure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Gentamic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63 (196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Modifying enzym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S. aure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Nalidixic 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62 (196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opoisomerase mu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E. co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Cefo</a:t>
                      </a:r>
                      <a:r>
                        <a:rPr b="1" lang="en-GB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ax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75  (198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81, 19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AmpC ß-lactamases, ESB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Enterobacteriace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Imipen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76 (198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Adquired carbapenem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P. aeruginosa, S. marcesce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inezol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79 (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3S RNA mu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S. aureus, E. faecal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Daptomy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80 (20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S. aureus, E. faecal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93"/>
          <p:cNvSpPr/>
          <p:nvPr/>
        </p:nvSpPr>
        <p:spPr>
          <a:xfrm>
            <a:off x="6006600" y="643716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504d"/>
                </a:solidFill>
                <a:latin typeface="Arial"/>
              </a:rPr>
              <a:t>Rafael Cantón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44CF-CC98-4E52-820D-7705F533A0B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809A-6D91-45C5-8248-CB58563470B3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53416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88400" indent="-7884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Kinds of resistan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88400" indent="-7884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Non-inheritable resistan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88400" indent="-7884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istant of tubercle bacilli due to its localization in tissues and due to its slow multiplication, therefore, antibiotic effect is not efficie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88400" indent="-7884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other example is the L-form bacteria which could survive for several generations without cell wall and so are not affects by penicilli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39D3-F2AA-4032-A91B-95F447427B09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EE83-3435-4512-B51D-4C779E59C2C4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3818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nicillins are not effective against Mycoplasma because the lack of cell wal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ugs unable to pass bacterial cell wall to reach ribosomes developed resista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h naturally occurring resistance are called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intrinsic re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usceptible bacteria to a particular drug become resistant to it, is called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acquired re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40EB-E610-467C-89BB-81525A4B18B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2C3F-2B33-4E17-88B9-EE7A80DF3D8D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4582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f6228"/>
                </a:solidFill>
                <a:uFillTx/>
                <a:latin typeface="Calibri"/>
              </a:rPr>
              <a:t>Inheritable resista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hromosomal resista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mutation that causes a change in the structure of a drug binding site and this mutation against antibiotics are inheritable to the new generation. Mutation occur due to under dosage and prolonged administration of the dru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osomal mutation that causes a change in cell membrane perme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E710-5FDE-462E-95CE-10D30C05D3B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1297-4A0C-48B4-BF50-D9B300CD2718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6228"/>
                </a:solidFill>
                <a:latin typeface="Calibri"/>
              </a:rPr>
              <a:t>Plasmid resist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smid is a circular DNA, which may carry gene or several genes responsible for resistant against one or multiple antibiotics and these genes on the plasmids are called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R-transfer-factor (R-fact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 Some of these R-plasmid are responsible for production of enzymes that destroy the antibiotic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smid cross between different bacterial cells and bacteria may become multi-drug-resistance (MD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8AE8-827E-486C-963C-865B5006EED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790E-6413-444B-972E-8CBFFE900DA3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6108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smids transfer from one bacterial cell to another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Transduction (via bacteriophage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Transformation (the uptake of naked DNA from environment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Conjugation: it’s the most popular plasmid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smid resistant most occur in enteric bacteria e.g. E. coli, Salmonella, …et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6228"/>
                </a:solidFill>
                <a:latin typeface="Calibri"/>
              </a:rPr>
              <a:t>Mechanism of Resistance of</a:t>
            </a:r>
            <a:r>
              <a:rPr b="0" lang="en-US" sz="5400" spc="-1" strike="noStrike">
                <a:solidFill>
                  <a:srgbClr val="4f6228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Different groups of Antibio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B4D0-033C-4CBE-9CA0-9332040D6CB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3182-6D49-42DB-8215-49F7ABBD2F14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Mechanism of drug resistance (</a:t>
            </a:r>
            <a:r>
              <a:rPr b="1" lang="el-GR" sz="3600" spc="-1" strike="noStrike">
                <a:solidFill>
                  <a:srgbClr val="c00000"/>
                </a:solidFill>
                <a:latin typeface="Calibri"/>
              </a:rPr>
              <a:t>β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-lactams</a:t>
            </a: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28240" y="914040"/>
            <a:ext cx="89154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genral mech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 Prevention of the interaction between the antibiotic and the target Penicillin-Binding Protein(PBP). Seen only in gram-negative bacteria.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seudomon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pp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etration of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lactam antibiotics into G-ve bacteria requires transit through pores in the outer membrane. Changes in the proteins (Porins) can alter the size or charge of these channels and results in exclusion of the antibi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6880-0951-4355-BB2B-7E0AEDA2B0D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19C5-7607-4FC6-A956-338A1BBB0600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 Modification of the binding of antibiotic to PBP. Can be mediated b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production of PBP (ra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quisition of new PBP(methicillin resistance i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aphylococcus aure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ification of an existing PBP through recombination (penicillin resistance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aphylococcus pneumon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 Or point mutation (penicillin resistance i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nterococcus faeciu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AA99-19A8-4992-A8BB-31FE2735619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8793-6A69-437F-9E35-830FB68500AC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MICROBIOLOG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Adnan S. Jaran BSc. MSc. PhD. AIB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A4DD-C1D8-401A-8B68-73E05029128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9617-BE4E-4831-801F-BC17ADE1CF13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14200" y="857160"/>
            <a:ext cx="888840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PRINCIPLES OF DISEASE I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BLOCK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  <a:ea typeface="Times New Roman"/>
              </a:rPr>
              <a:t>  </a:t>
            </a:r>
            <a:br>
              <a:rPr sz="18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(PATH 122)</a:t>
            </a:r>
            <a:br>
              <a:rPr sz="18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Credit Hours: 6 (2+2+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130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2280" y="304920"/>
            <a:ext cx="876312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- Hydrolysis of the antibiotic by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lactamases. Bacteria can produce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lactamases that inactivate the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lactam antibiotic.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lactamases are in the same family of serine proteases as the PB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than 200 different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lactamases described. Some are specific for penicillins (penicillinases). Cephalosporins (cephalosporinases). Carbapenems (carbapenemaes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s have broad range of activ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lactamases are classified into 4 groups (A to D). Most common class A SHV-1 TEM-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F5AD-FFAE-4488-9001-1FFA583C8EF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DAD8-0967-4F2B-88DE-73B206DD4CCD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Calibri"/>
              </a:rPr>
              <a:t>Mechanism of drug resistance (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Aminoglycosides</a:t>
            </a:r>
            <a:r>
              <a:rPr b="1" lang="en-US" sz="2800" spc="-1" strike="noStrike">
                <a:solidFill>
                  <a:srgbClr val="4f6228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8600" y="8380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 different ways of developing resistan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1- mutation of the ribosomal binding sit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2- Decreased uptake of the antibiotics into cel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3- Increased expulsion of the antibiotic from cel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4- Enzymatic modification of the antibiotic. Most common mechanism of resistance, accomplished by the action of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Phosphotranferases (APHs)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 are described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Calibri"/>
              </a:rPr>
              <a:t>Adenyltransferases (ANTs)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9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 are desrcribed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Calibri"/>
              </a:rPr>
              <a:t>Acetyltrasferases (AACs)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; four are described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ll on the amino and hydroxyl groups of the antibiotic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7335-8D4B-439E-B567-7D9792C0A57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FE0F-8EE4-4D99-A01C-731426151B6F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f6228"/>
                </a:solidFill>
                <a:uFillTx/>
                <a:latin typeface="Calibri"/>
              </a:rPr>
              <a:t>Mechanism of drug resistance (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Tetracyclines</a:t>
            </a:r>
            <a:r>
              <a:rPr b="1" lang="en-US" sz="3200" spc="-1" strike="noStrike" u="sng">
                <a:solidFill>
                  <a:srgbClr val="4f6228"/>
                </a:solidFill>
                <a:uFillTx/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6840" y="762120"/>
            <a:ext cx="84582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stance occurs due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d penetration into bacterial cel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 efflux of out of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eration of ribosomal target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zymatic modification of the antibiot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f6228"/>
                </a:solidFill>
                <a:uFillTx/>
                <a:latin typeface="Calibri"/>
              </a:rPr>
              <a:t>Mechanism of drug resistance (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chloramphenicol</a:t>
            </a:r>
            <a:r>
              <a:rPr b="1" lang="en-US" sz="3200" spc="-1" strike="noStrike" u="sng">
                <a:solidFill>
                  <a:srgbClr val="4f6228"/>
                </a:solidFill>
                <a:uFillTx/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smid-mediated, production of chloramphenicol acetyltranferase, which changes the structure of chloramphenicol and can not bind to the 50S subuni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EF65-4ECD-41C7-9DA8-A542A09FB89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4C67-2B67-448C-A5D0-585EC89B2DF1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304920"/>
            <a:ext cx="84582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f6228"/>
                </a:solidFill>
                <a:uFillTx/>
                <a:latin typeface="Calibri"/>
              </a:rPr>
              <a:t>Mechanism of drug resistance (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Macrolides</a:t>
            </a:r>
            <a:r>
              <a:rPr b="1" lang="en-US" sz="3200" spc="-1" strike="noStrike" u="sng">
                <a:solidFill>
                  <a:srgbClr val="4f6228"/>
                </a:solidFill>
                <a:uFillTx/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s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ylation of the 23S ribosomal RNA (rRNA) preventing binding of the antibiot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activation by enz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tation in the 23S rRNA and ribosomal prote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f6228"/>
                </a:solidFill>
                <a:uFillTx/>
                <a:latin typeface="Calibri"/>
              </a:rPr>
              <a:t>Mechanism of drug resistance (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Calibri"/>
              </a:rPr>
              <a:t>Quinolones</a:t>
            </a:r>
            <a:r>
              <a:rPr b="1" lang="en-US" sz="2800" spc="-1" strike="noStrike" u="sng">
                <a:solidFill>
                  <a:srgbClr val="4f6228"/>
                </a:solidFill>
                <a:uFillTx/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ated by chromosomal mutations in the structural genes for DNA gyrase and Topoisomerase I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f6228"/>
                </a:solidFill>
                <a:uFillTx/>
                <a:latin typeface="Calibri"/>
              </a:rPr>
              <a:t>Mechanism of drug resistance (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Calibri"/>
              </a:rPr>
              <a:t>Rifampin</a:t>
            </a:r>
            <a:r>
              <a:rPr b="1" lang="en-US" sz="2800" spc="-1" strike="noStrike" u="sng">
                <a:solidFill>
                  <a:srgbClr val="4f6228"/>
                </a:solidFill>
                <a:uFillTx/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gram positive bacteria results from a mutation in the chromosomal gene that code for the b subunit of RNA polymer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02E2-DC09-4435-AEA5-10F259B9B89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B5B5-44B4-446A-AC3C-EB1E7A1A15D5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4f6228"/>
                </a:solidFill>
                <a:latin typeface="Calibri"/>
              </a:rPr>
              <a:t>Proposals to Combat Antimicrobial Resistanc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ed development of new antibi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resistance data nationw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trict antimicrobial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observed dosing (T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more narrow spectrum antibi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ntimicrobial cockta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C81A-F01E-4858-9AB3-FA3F2C96B5B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2532-38BA-4785-B09D-F6CD91E8E158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29528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4f6228"/>
                </a:solidFill>
                <a:latin typeface="Arial Black"/>
              </a:rPr>
              <a:t>Mechanisms of Action of bacterial resistance to different groups of antibacterial drugs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01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5F60-558E-46DC-A1E0-5860B88AD4D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A0F4-9013-4F85-BAEC-FD591660D840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6228"/>
                </a:solidFill>
                <a:latin typeface="Calibri"/>
              </a:rPr>
              <a:t>Antimicrobial Resistan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lative or complete lack of effect of antimicrobial against a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previously susceptibl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microb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crease in Minimum Inhibitory Concentration (MIC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3399-E682-4A43-A326-593A443ADE4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8904-9458-460D-AC7F-D98FAC766F1B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2743200"/>
            <a:ext cx="8610480" cy="32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zymatic destruction of dru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vention of penetration of dru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ation of drug's target 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pid ejection of the dru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8080" y="452160"/>
            <a:ext cx="753768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f6228"/>
                </a:solidFill>
                <a:latin typeface="Calibri"/>
              </a:rPr>
              <a:t>Mechanisms of Antibiotic Resistanc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69A8-5799-49E6-894A-FEB9CC7255C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DA4B-95EF-4B18-ABA2-8B3229EC5E0A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f6228"/>
                </a:solidFill>
                <a:latin typeface="Calibri"/>
              </a:rPr>
              <a:t>What Factors Promote Antimicrobial Resistanc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osure to sub-optimal levels of antimicrobial (sub-inhibitory levels). leads to the survival and multiplication of resistant mutants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 (superbugs)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osure to microbes carrying resistance ge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9877-E11B-4C6D-A9BE-2230909F193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B01D-27A6-4EEA-96F3-22AFF0487005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f6228"/>
                </a:solidFill>
                <a:latin typeface="Calibri"/>
              </a:rPr>
              <a:t>Inappropriate Antimicrobial Use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escription not taken correct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tibiotics for viral infe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tibiotics sold without medical supervi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read of resistant microbes in hospitals due to lack of hygie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38A4-C7B9-4BF6-9DEE-3C4618896EA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97C1-8EAE-4990-8886-3E885AAA9BDB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f6228"/>
                </a:solidFill>
                <a:latin typeface="Calibri"/>
              </a:rPr>
              <a:t>Inappropriate Antimicrobial Use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ck of quality control in manufacture or outdated antimicrob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adequate surveillance or defective susceptibility assay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verty or w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 of antibiotics in foo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4125-B2D6-4992-82A5-1FBA66FAD14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AC81-DDB4-4C64-A9A0-0D87A51E2566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f6228"/>
                </a:solidFill>
                <a:latin typeface="Calibri"/>
              </a:rPr>
              <a:t>Troublesome superbug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thicillin-Resistant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Staphylococcus aureus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MRSA), S. epidermidis (MRSE)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st frequent nosocomial (hospital-acquired) patho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ually resistant to several other antibio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3370-E760-4AAF-AB48-DC5FCE743F9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130D-2CB8-4AF5-9B89-A9B051BD5870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mam</cp:lastModifiedBy>
  <dcterms:modified xsi:type="dcterms:W3CDTF">2010-12-23T19:26:17Z</dcterms:modified>
  <cp:revision>1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