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2B611-DC80-414B-9C1B-BB23FB23EECC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B4E5D-4CDC-476F-A187-266D147DFEC3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1F283-B8AD-4849-B375-47589A81CC3F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2EA4B-DC21-417F-9712-4015D0120BFF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B5F18-3E36-4E2D-8B3D-3FEA6E326C13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91CC1-A9D9-4AC5-BF59-C1DE7DA1F67F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CF47F-91F9-4423-BD8C-09E7FE834A61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4B988-58A2-4A7A-8F24-6C72862750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A3849-4ED2-435D-9EAB-5F9C95F571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92E2F-EF95-4BD6-A008-367B9F74AC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15584-F194-4C4F-AF4B-0A232D2AB2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C7E1C-1D84-4ECD-BDC0-2B721D5E50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04AFD-DD21-40A1-B186-115429C3A0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29BDA-4A68-4B12-BC2C-CC0887983E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E9BFD-5292-4BC9-A441-54A061B93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96833-A5CC-4516-8824-DED0A038D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1BB8F-D959-405D-8DAC-A9BA35452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24E1C-120E-468E-BE49-6AAC2E235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27B89-06B0-44E6-887A-1B346F0A5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069A3-268F-48F2-ACC4-93A21603E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4C560-4E26-4C90-95D9-BF5345974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75A16-26A0-4CFD-BE97-3B768EBF8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169E9-C913-42C3-8A07-92A4332F5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0B110-623F-4881-B609-1BC545BC2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592F1-41A0-4E0C-81E8-E3222A284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A5236-3797-45C2-B177-207892873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DD967-479C-4726-A954-71ECA0787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0FB96-94CD-4BBC-A7C4-3E68FB38A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C020B-0243-4251-A1AB-3399D2218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A260C-9CFC-4397-9553-B046CFC20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0BC12-3A04-4490-9FA9-1232E496F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E5ECE-5EF8-465D-A83C-4CF130AF9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177BB-B742-4A51-968E-7E3251D7D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255E0-E768-4B9B-95EB-CDA1BA660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05640-94B3-4C36-BAFF-A4837C550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D07A3-E882-4F6E-81CC-E066AC3FA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CC3EB-FF2E-442B-9EC3-34D97A3D7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EE0D9-3391-4326-A70E-CCDC69723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3E6FE-8899-453D-BB00-7FA6F8F4BDCA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Dr. Adnan Jar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EB459-5F57-4F9C-926E-2F4B49235E2C}" type="slidenum">
              <a:rPr b="0" lang="ar-SA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63FE1-BF3F-4437-AB9F-1605BF63A58B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عنصر نائب للتاريخ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97B58-FD2B-4FD7-8843-0686344BA2F7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عنصر نائب للتذييل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Dr. Adnan Jar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عنصر نائب لرقم الشريحة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1E18B-8B6F-4B46-B1DE-912F7E581145}" type="slidenum">
              <a:rPr b="0" lang="ar-SA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11" descr="Imam Logo"/>
          <p:cNvPicPr/>
          <p:nvPr/>
        </p:nvPicPr>
        <p:blipFill>
          <a:blip r:embed="rId1"/>
          <a:stretch/>
        </p:blipFill>
        <p:spPr>
          <a:xfrm>
            <a:off x="2666880" y="914400"/>
            <a:ext cx="3314880" cy="4686480"/>
          </a:xfrm>
          <a:prstGeom prst="rect">
            <a:avLst/>
          </a:prstGeom>
          <a:ln w="0">
            <a:noFill/>
          </a:ln>
        </p:spPr>
      </p:pic>
      <p:sp>
        <p:nvSpPr>
          <p:cNvPr id="93" name="مستطيل 5"/>
          <p:cNvSpPr/>
          <p:nvPr/>
        </p:nvSpPr>
        <p:spPr>
          <a:xfrm>
            <a:off x="0" y="457200"/>
            <a:ext cx="9144000" cy="50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1f497d"/>
                </a:solidFill>
                <a:latin typeface="Times New Roman"/>
                <a:cs typeface="Times New Roman"/>
              </a:rPr>
              <a:t>بسم الله الرحمن الرحيم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Castellar"/>
              </a:rPr>
              <a:t>Al-Imam Mohammed Bin Saud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Castellar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stellar"/>
              </a:rPr>
              <a:t>College of Medic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عنصر نائب للتاريخ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19B6D-B8A2-4650-98E0-E310C2DF9411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عنصر نائب للتذييل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Dr. Adnan Jar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عنصر نائب لرقم الشريحة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493DF-D9F9-4385-A7E3-33D8FCDE1CED}" type="slidenum">
              <a:rPr b="0" lang="ar-SA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456840" y="380520"/>
            <a:ext cx="8458200" cy="57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20000"/>
              </a:lnSpc>
              <a:spcBef>
                <a:spcPts val="675"/>
              </a:spcBef>
              <a:buClr>
                <a:srgbClr val="4f62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f6228"/>
                </a:solidFill>
                <a:latin typeface="Calibri"/>
              </a:rPr>
              <a:t>Vancomycin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-resistant Enterococcus spp. (VRE). These strains are resistant to all anti-Enterococcus drugs including vancomycin. Enterococcus spp. are also common nosocomial infections especially for urinary tract infection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20000"/>
              </a:lnSpc>
              <a:spcBef>
                <a:spcPts val="675"/>
              </a:spcBef>
              <a:buClr>
                <a:srgbClr val="4f62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f6228"/>
                </a:solidFill>
                <a:latin typeface="Calibri"/>
              </a:rPr>
              <a:t>Multi-drug-resistant Mycobacterium tuberculosis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(MRTB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20000"/>
              </a:lnSpc>
              <a:spcBef>
                <a:spcPts val="675"/>
              </a:spcBef>
              <a:buClr>
                <a:srgbClr val="4f62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f6228"/>
                </a:solidFill>
                <a:latin typeface="Calibri"/>
              </a:rPr>
              <a:t>Multi-drug-resistant strains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of Pseudomonas spp., Salmonella spp. Shigella spp. and Neisseria gonorrhoea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20000"/>
              </a:lnSpc>
              <a:spcBef>
                <a:spcPts val="675"/>
              </a:spcBef>
              <a:buClr>
                <a:srgbClr val="4f62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f6228"/>
                </a:solidFill>
                <a:latin typeface="Calibri"/>
              </a:rPr>
              <a:t>Beta-lactamase producing strains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of Streptococcus pneumoniae and Haemophilus influenza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457200" y="380880"/>
            <a:ext cx="8229600" cy="57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Line 2"/>
          <p:cNvSpPr/>
          <p:nvPr/>
        </p:nvSpPr>
        <p:spPr>
          <a:xfrm>
            <a:off x="179280" y="735120"/>
            <a:ext cx="878544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3"/>
          <p:cNvSpPr/>
          <p:nvPr/>
        </p:nvSpPr>
        <p:spPr>
          <a:xfrm>
            <a:off x="73080" y="125280"/>
            <a:ext cx="9070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504d"/>
                </a:solidFill>
                <a:latin typeface="Arial"/>
              </a:rPr>
              <a:t>Antibiotic resistance follows their introduction into therapy</a:t>
            </a:r>
            <a:r>
              <a:rPr b="1" lang="en-US" sz="2600" spc="-1" strike="noStrike">
                <a:solidFill>
                  <a:srgbClr val="ffff66"/>
                </a:solidFill>
                <a:latin typeface="Arial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131760" y="914400"/>
          <a:ext cx="8871120" cy="5578560"/>
        </p:xfrm>
        <a:graphic>
          <a:graphicData uri="http://schemas.openxmlformats.org/drawingml/2006/table">
            <a:tbl>
              <a:tblPr/>
              <a:tblGrid>
                <a:gridCol w="1511280"/>
                <a:gridCol w="1506600"/>
                <a:gridCol w="1246320"/>
                <a:gridCol w="2239920"/>
                <a:gridCol w="2367000"/>
              </a:tblGrid>
              <a:tr h="55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Anti-infective ag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Discove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(introduction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Resista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1" lang="en-GB" sz="1400" spc="-1" strike="noStrike" baseline="30000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st</a:t>
                      </a:r>
                      <a:r>
                        <a:rPr b="1" lang="en-GB" sz="1400" spc="-1" strike="noStrike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 reported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Mechanisms of resistanc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Organism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Penicillin G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1940 (1943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19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Penicillina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fr-FR" sz="1200" spc="-1" strike="noStrike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S. aureu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Streptomyc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1944 (1947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194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S12 ribosomal mutat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fr-FR" sz="1200" spc="-1" strike="noStrike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M. tuberculos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6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Tetracycli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r" pos="449280"/>
                          <a:tab algn="ctr" pos="2700360"/>
                          <a:tab algn="r" pos="540072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1948 (1952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195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Eflfux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fr-FR" sz="1200" spc="-1" strike="noStrike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Shigella dysenteri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Erythromyc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1952 (1955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19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23S rRNA methyl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1200" spc="-1" strike="noStrike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S. aureu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7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Vancomyc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1956 (1972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1988, 20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200" spc="-1" strike="noStrike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D-Ala-D-Ala replacem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fr-FR" sz="1200" spc="-1" strike="noStrike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E. faecalis, S. aureu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Methicill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1959( 1961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19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MecA (PPP2a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fr-FR" sz="1200" spc="-1" strike="noStrike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S. aureu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Gentamicin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1963 (1967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196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Modifying enzyme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fr-FR" sz="1200" spc="-1" strike="noStrike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S. aureu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Nalidixic ac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1962 (1964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19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Topoisomerase mutat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fr-FR" sz="1200" spc="-1" strike="noStrike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E. col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5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Cefo</a:t>
                      </a:r>
                      <a:r>
                        <a:rPr b="1" lang="en-GB" sz="1400" spc="-1" strike="noStrike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taxi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1975  (1981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r" pos="449280"/>
                          <a:tab algn="ctr" pos="2700360"/>
                          <a:tab algn="r" pos="540072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1981, 198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200" spc="-1" strike="noStrike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AmpC ß-lactamases, ESB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200" spc="-1" strike="noStrike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Enterobacteriacea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Imipene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200" spc="-1" strike="noStrike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1976 (1987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r" pos="449280"/>
                          <a:tab algn="ctr" pos="2700360"/>
                          <a:tab algn="r" pos="540072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200" spc="-1" strike="noStrike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198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200" spc="-1" strike="noStrike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Adquired carbapenemas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1200" spc="-1" strike="noStrike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P. aeruginosa, S. marcesce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Linezoli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1979 (2000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r" pos="449280"/>
                          <a:tab algn="ctr" pos="2700360"/>
                          <a:tab algn="r" pos="540072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19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23S RNA mutat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1200" spc="-1" strike="noStrike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S. aureus, E. faecal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Daptomyc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1980 (2004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r" pos="449280"/>
                          <a:tab algn="ctr" pos="2700360"/>
                          <a:tab algn="r" pos="540072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20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1200" spc="-1" strike="noStrike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S. aureus, E. faecal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2" name="Text Box 93"/>
          <p:cNvSpPr/>
          <p:nvPr/>
        </p:nvSpPr>
        <p:spPr>
          <a:xfrm>
            <a:off x="6006600" y="6437160"/>
            <a:ext cx="235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0504d"/>
                </a:solidFill>
                <a:latin typeface="Arial"/>
              </a:rPr>
              <a:t>Rafael Cantón,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عنصر نائب للتاريخ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7231F-310E-40B2-8BD9-ED91C35C7596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عنصر نائب للتذييل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Dr. Adnan Jar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عنصر نائب لرقم الشريحة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7854D-9372-49CE-AE54-8CF49F39EA66}" type="slidenum">
              <a:rPr b="0" lang="ar-SA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304920" y="228240"/>
            <a:ext cx="853416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788400" indent="-78840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</a:rPr>
              <a:t>Kinds of resistance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788400" indent="-78840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Calibri"/>
              </a:rPr>
              <a:t>Non-inheritable resistance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788400" indent="-78840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Resistant of tubercle bacilli due to its localization in tissues and due to its slow multiplication, therefore, antibiotic effect is not efficient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788400" indent="-78840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nother example is the L-form bacteria which could survive for several generations without cell wall and so are not affects by penicillin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عنصر نائب للتاريخ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1B741-63E8-4389-8439-7A454F3921D5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عنصر نائب للتذييل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Dr. Adnan Jar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عنصر نائب لرقم الشريحة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9C88F-22F1-4AC1-A98C-7487DE0D163A}" type="slidenum">
              <a:rPr b="0" lang="ar-SA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456840" y="228600"/>
            <a:ext cx="838188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-8128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nicillins are not effective against Mycoplasma because the lack of cell wall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812880" indent="-8128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rugs unable to pass bacterial cell wall to reach ribosomes developed resistant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812880" indent="-8128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ch naturally occurring resistance are called </a:t>
            </a: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intrinsic resist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812880" indent="-8128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nce susceptible bacteria to a particular drug become resistant to it, is called </a:t>
            </a: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acquired resist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عنصر نائب للتاريخ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4DC11-BC59-44CD-B3C5-84CD95C1441C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عنصر نائب للتذييل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Dr. Adnan Jar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عنصر نائب لرقم الشريحة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A50FD-EF64-403E-A45D-1C064AE59DD4}" type="slidenum">
              <a:rPr b="0" lang="ar-SA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304560" y="456840"/>
            <a:ext cx="845820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50000"/>
              </a:lnSpc>
              <a:spcBef>
                <a:spcPts val="700"/>
              </a:spcBef>
              <a:buClr>
                <a:srgbClr val="4f62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4f6228"/>
                </a:solidFill>
                <a:uFillTx/>
                <a:latin typeface="Calibri"/>
              </a:rPr>
              <a:t>Inheritable resistanc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Chromosomal resistanc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NA mutation that causes a change in the structure of a drug binding site and this mutation against antibiotics are inheritable to the new generation. Mutation occur due to under dosage and prolonged administration of the drug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romosomal mutation that causes a change in cell membrane permeabil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عنصر نائب للتاريخ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1694D-A78F-48B3-B33E-A50A56862172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عنصر نائب للتذييل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Dr. Adnan Jar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عنصر نائب لرقم الشريحة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6B0EA-748C-4361-BC34-47B5B99159B2}" type="slidenum">
              <a:rPr b="0" lang="ar-SA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304920" y="304920"/>
            <a:ext cx="8534160" cy="58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50000"/>
              </a:lnSpc>
              <a:spcBef>
                <a:spcPts val="799"/>
              </a:spcBef>
              <a:buClr>
                <a:srgbClr val="4f62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4f6228"/>
                </a:solidFill>
                <a:latin typeface="Calibri"/>
              </a:rPr>
              <a:t>Plasmid resistanc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lasmid is a circular DNA, which may carry gene or several genes responsible for resistant against one or multiple antibiotics and these genes on the plasmids are called </a:t>
            </a: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R-transfer-factor (R-facto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. Some of these R-plasmid are responsible for production of enzymes that destroy the antibiotic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lasmid cross between different bacterial cells and bacteria may become multi-drug-resistance (MD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عنصر نائب للتاريخ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6B2F4-0DE3-43D4-B7A0-47442C887EEB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عنصر نائب للتذييل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Dr. Adnan Jar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عنصر نائب لرقم الشريحة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75D99-F4FC-46C6-B9ED-F92A8824457C}" type="slidenum">
              <a:rPr b="0" lang="ar-SA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151920" y="304560"/>
            <a:ext cx="861084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lasmids transfer from one bacterial cell to another by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.Transduction (via bacteriophage)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. Transformation (the uptake of naked DNA from environment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. Conjugation: it’s the most popular plasmid transf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lasmid resistant most occur in enteric bacteria e.g. E. coli, Salmonella, …etc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f6228"/>
                </a:solidFill>
                <a:latin typeface="Calibri"/>
              </a:rPr>
              <a:t>Mechanism of Resistance of</a:t>
            </a:r>
            <a:r>
              <a:rPr b="0" lang="en-US" sz="5400" spc="-1" strike="noStrike">
                <a:solidFill>
                  <a:srgbClr val="4f6228"/>
                </a:solidFill>
                <a:latin typeface="Calibri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837720" y="38862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Calibri"/>
              </a:rPr>
              <a:t>Different groups of Antibiotic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عنصر نائب للتاريخ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E4D05-8558-462A-9D05-9E6FC4418461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عنصر نائب للتذييل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Dr. Adnan Jar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عنصر نائب لرقم الشريحة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45AD3-F72A-4FB4-B1CE-3D243D4CE5C7}" type="slidenum">
              <a:rPr b="0" lang="ar-SA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f6228"/>
                </a:solidFill>
                <a:latin typeface="Calibri"/>
              </a:rPr>
              <a:t>Mechanism of drug resistance (</a:t>
            </a:r>
            <a:r>
              <a:rPr b="1" lang="el-GR" sz="3600" spc="-1" strike="noStrike">
                <a:solidFill>
                  <a:srgbClr val="c00000"/>
                </a:solidFill>
                <a:latin typeface="Calibri"/>
              </a:rPr>
              <a:t>β</a:t>
            </a:r>
            <a:r>
              <a:rPr b="1" lang="en-US" sz="3600" spc="-1" strike="noStrike">
                <a:solidFill>
                  <a:srgbClr val="c00000"/>
                </a:solidFill>
                <a:latin typeface="Calibri"/>
              </a:rPr>
              <a:t>-lactams</a:t>
            </a:r>
            <a:r>
              <a:rPr b="1" lang="en-US" sz="3600" spc="-1" strike="noStrike">
                <a:solidFill>
                  <a:srgbClr val="4f6228"/>
                </a:solidFill>
                <a:latin typeface="Calibri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228240" y="914040"/>
            <a:ext cx="891540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ree genral mechanis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- Prevention of the interaction between the antibiotic and the target Penicillin-Binding Protein(PBP). Seen only in gram-negative bacteria. (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Pseudomona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pp.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netration of </a:t>
            </a:r>
            <a:r>
              <a:rPr b="0" lang="el-GR" sz="3200" spc="-1" strike="noStrike">
                <a:solidFill>
                  <a:srgbClr val="000000"/>
                </a:solidFill>
                <a:latin typeface="Calibri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lactam antibiotics into G-ve bacteria requires transit through pores in the outer membrane. Changes in the proteins (Porins) can alter the size or charge of these channels and results in exclusion of the antibioti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عنصر نائب للتاريخ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87A2E-CB01-4A9F-830E-64035E646102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عنصر نائب للتذييل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Dr. Adnan Jar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عنصر نائب لرقم الشريحة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FFA53-B3A6-427E-93B6-5F0A29A6C71A}" type="slidenum">
              <a:rPr b="0" lang="ar-SA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-842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- Modification of the binding of antibiotic to PBP. Can be mediated by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verproduction of PBP (rar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cquisition of new PBP(methicillin resistance in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taphylococcus aureu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dification of an existing PBP through recombination (penicillin resistance to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taphylococcus pneumoni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. Or point mutation (penicillin resistance in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nterococcus faecium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عنصر نائب للتاريخ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DAF99-4B70-4362-BAD1-043DFE815FC3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عنصر نائب للتذييل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Dr. Adnan Jar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عنصر نائب لرقم الشريحة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570AF-F96A-4219-9867-CA94E77FC19F}" type="slidenum">
              <a:rPr b="0" lang="ar-SA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2060"/>
                </a:solidFill>
                <a:latin typeface="Calibri"/>
              </a:rPr>
              <a:t>MICROBIOLOG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lang="en-US" sz="3000" spc="-1" strike="noStrike">
                <a:solidFill>
                  <a:srgbClr val="002060"/>
                </a:solidFill>
                <a:latin typeface="Calibri"/>
              </a:rPr>
              <a:t>Adnan S. Jaran BSc. MSc. PhD. AIBM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عنصر نائب للتاريخ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76E05-EA44-4E0C-8D5B-C3715A39127E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عنصر نائب للتذييل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Dr. Adnan Jar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عنصر نائب لرقم الشريحة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AD8A5-CCFE-4339-AA11-D2F6C79387E8}" type="slidenum">
              <a:rPr b="0" lang="ar-SA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title"/>
          </p:nvPr>
        </p:nvSpPr>
        <p:spPr>
          <a:xfrm>
            <a:off x="214200" y="857160"/>
            <a:ext cx="8888400" cy="249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PRINCIPLES OF DISEASE I 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BLOCK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4000" spc="-1" strike="noStrike">
                <a:solidFill>
                  <a:srgbClr val="0000ff"/>
                </a:solidFill>
                <a:latin typeface="Calibri"/>
                <a:ea typeface="Times New Roman"/>
              </a:rPr>
              <a:t>  </a:t>
            </a:r>
            <a:br>
              <a:rPr sz="18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(PATH 122)</a:t>
            </a:r>
            <a:br>
              <a:rPr sz="18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Credit Hours: 6 (2+2+2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-13032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152280" y="304920"/>
            <a:ext cx="8763120" cy="58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- Hydrolysis of the antibiotic by </a:t>
            </a:r>
            <a:r>
              <a:rPr b="0" lang="el-GR" sz="3200" spc="-1" strike="noStrike">
                <a:solidFill>
                  <a:srgbClr val="000000"/>
                </a:solidFill>
                <a:latin typeface="Calibri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lactamases. Bacteria can produce </a:t>
            </a:r>
            <a:r>
              <a:rPr b="0" lang="el-GR" sz="3200" spc="-1" strike="noStrike">
                <a:solidFill>
                  <a:srgbClr val="000000"/>
                </a:solidFill>
                <a:latin typeface="Calibri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lactamases that inactivate the </a:t>
            </a:r>
            <a:r>
              <a:rPr b="0" lang="el-GR" sz="3200" spc="-1" strike="noStrike">
                <a:solidFill>
                  <a:srgbClr val="000000"/>
                </a:solidFill>
                <a:latin typeface="Calibri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lactam antibiotic. </a:t>
            </a:r>
            <a:r>
              <a:rPr b="0" lang="el-GR" sz="3200" spc="-1" strike="noStrike">
                <a:solidFill>
                  <a:srgbClr val="000000"/>
                </a:solidFill>
                <a:latin typeface="Calibri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lactamases are in the same family of serine proteases as the PBP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re than 200 different </a:t>
            </a:r>
            <a:r>
              <a:rPr b="0" lang="el-GR" sz="3200" spc="-1" strike="noStrike">
                <a:solidFill>
                  <a:srgbClr val="000000"/>
                </a:solidFill>
                <a:latin typeface="Calibri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lactamases described. Some are specific for penicillins (penicillinases). Cephalosporins (cephalosporinases). Carbapenems (carbapenemaese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thers have broad range of activit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Calibri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lactamases are classified into 4 groups (A to D). Most common class A SHV-1 TEM-1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عنصر نائب للتاريخ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39D2C-3D8E-4655-A445-D3843C7C31AD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عنصر نائب للتذييل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Dr. Adnan Jar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عنصر نائب لرقم الشريحة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5E910-5DF5-48FF-8845-61EBDE527C2A}" type="slidenum">
              <a:rPr b="0" lang="ar-SA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f6228"/>
                </a:solidFill>
                <a:latin typeface="Calibri"/>
              </a:rPr>
              <a:t>Mechanism of drug resistance (</a:t>
            </a: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Aminoglycosides</a:t>
            </a:r>
            <a:r>
              <a:rPr b="1" lang="en-US" sz="2800" spc="-1" strike="noStrike">
                <a:solidFill>
                  <a:srgbClr val="4f6228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228600" y="83808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 different ways of developing resistance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1- mutation of the ribosomal binding site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2- Decreased uptake of the antibiotics into cel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3- Increased expulsion of the antibiotic from cel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4- Enzymatic modification of the antibiotic. Most common mechanism of resistance, accomplished by the action of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0000"/>
                </a:solidFill>
                <a:latin typeface="Calibri"/>
              </a:rPr>
              <a:t>Phosphotranferases (APHs)</a:t>
            </a: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;</a:t>
            </a:r>
            <a:r>
              <a:rPr b="0" lang="en-US" sz="29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 are described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c00000"/>
                </a:solidFill>
                <a:latin typeface="Calibri"/>
              </a:rPr>
              <a:t>Adenyltransferases (ANTs)</a:t>
            </a: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;</a:t>
            </a:r>
            <a:r>
              <a:rPr b="0" lang="en-US" sz="29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 are desrcribed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c00000"/>
                </a:solidFill>
                <a:latin typeface="Calibri"/>
              </a:rPr>
              <a:t>Acetyltrasferases (AACs)</a:t>
            </a: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; four are described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All on the amino and hydroxyl groups of the antibiotic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عنصر نائب للتاريخ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3405D-1677-4497-808F-2AA0A8D7236D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عنصر نائب للتذييل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Dr. Adnan Jar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عنصر نائب لرقم الشريحة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E81E8-0F26-4D33-8715-78D619585838}" type="slidenum">
              <a:rPr b="0" lang="ar-SA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4f6228"/>
                </a:solidFill>
                <a:uFillTx/>
                <a:latin typeface="Calibri"/>
              </a:rPr>
              <a:t>Mechanism of drug resistance (</a:t>
            </a:r>
            <a:r>
              <a:rPr b="1" lang="en-US" sz="3200" spc="-1" strike="noStrike" u="sng">
                <a:solidFill>
                  <a:srgbClr val="c00000"/>
                </a:solidFill>
                <a:uFillTx/>
                <a:latin typeface="Calibri"/>
              </a:rPr>
              <a:t>Tetracyclines</a:t>
            </a:r>
            <a:r>
              <a:rPr b="1" lang="en-US" sz="3200" spc="-1" strike="noStrike" u="sng">
                <a:solidFill>
                  <a:srgbClr val="4f6228"/>
                </a:solidFill>
                <a:uFillTx/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6840" y="762120"/>
            <a:ext cx="8458200" cy="53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istance occurs due to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creased penetration into bacterial cell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ctive efflux of out of the cel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teration of ribosomal target sit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zymatic modification of the antibiotic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4f6228"/>
                </a:solidFill>
                <a:uFillTx/>
                <a:latin typeface="Calibri"/>
              </a:rPr>
              <a:t>Mechanism of drug resistance (</a:t>
            </a:r>
            <a:r>
              <a:rPr b="1" lang="en-US" sz="3200" spc="-1" strike="noStrike" u="sng">
                <a:solidFill>
                  <a:srgbClr val="c00000"/>
                </a:solidFill>
                <a:uFillTx/>
                <a:latin typeface="Calibri"/>
              </a:rPr>
              <a:t>chloramphenicol</a:t>
            </a:r>
            <a:r>
              <a:rPr b="1" lang="en-US" sz="3200" spc="-1" strike="noStrike" u="sng">
                <a:solidFill>
                  <a:srgbClr val="4f6228"/>
                </a:solidFill>
                <a:uFillTx/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lasmid-mediated, production of chloramphenicol acetyltranferase, which changes the structure of chloramphenicol and can not bind to the 50S subunit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عنصر نائب للتاريخ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F381A-6677-4C71-A447-8EB395B985E6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عنصر نائب للتذييل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Dr. Adnan Jar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عنصر نائب لرقم الشريحة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B58CD-E0B1-47DD-812A-FF5F90954E83}" type="slidenum">
              <a:rPr b="0" lang="ar-SA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-842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6840" y="304920"/>
            <a:ext cx="8458200" cy="58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4f62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4f6228"/>
                </a:solidFill>
                <a:uFillTx/>
                <a:latin typeface="Calibri"/>
              </a:rPr>
              <a:t>Mechanism of drug resistance (</a:t>
            </a:r>
            <a:r>
              <a:rPr b="1" lang="en-US" sz="3200" spc="-1" strike="noStrike" u="sng">
                <a:solidFill>
                  <a:srgbClr val="c00000"/>
                </a:solidFill>
                <a:uFillTx/>
                <a:latin typeface="Calibri"/>
              </a:rPr>
              <a:t>Macrolides</a:t>
            </a:r>
            <a:r>
              <a:rPr b="1" lang="en-US" sz="3200" spc="-1" strike="noStrike" u="sng">
                <a:solidFill>
                  <a:srgbClr val="4f6228"/>
                </a:solidFill>
                <a:uFillTx/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ults fro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thylation of the 23S ribosomal RNA (rRNA) preventing binding of the antibioti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activation by enz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utation in the 23S rRNA and ribosomal protein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4f62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4f6228"/>
                </a:solidFill>
                <a:uFillTx/>
                <a:latin typeface="Calibri"/>
              </a:rPr>
              <a:t>Mechanism of drug resistance (</a:t>
            </a:r>
            <a:r>
              <a:rPr b="1" lang="en-US" sz="2800" spc="-1" strike="noStrike" u="sng">
                <a:solidFill>
                  <a:srgbClr val="c00000"/>
                </a:solidFill>
                <a:uFillTx/>
                <a:latin typeface="Calibri"/>
              </a:rPr>
              <a:t>Quinolones</a:t>
            </a:r>
            <a:r>
              <a:rPr b="1" lang="en-US" sz="2800" spc="-1" strike="noStrike" u="sng">
                <a:solidFill>
                  <a:srgbClr val="4f6228"/>
                </a:solidFill>
                <a:uFillTx/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diated by chromosomal mutations in the structural genes for DNA gyrase and Topoisomerase IV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4f6228"/>
                </a:solidFill>
                <a:uFillTx/>
                <a:latin typeface="Calibri"/>
              </a:rPr>
              <a:t>Mechanism of drug resistance (</a:t>
            </a:r>
            <a:r>
              <a:rPr b="1" lang="en-US" sz="2800" spc="-1" strike="noStrike" u="sng">
                <a:solidFill>
                  <a:srgbClr val="c00000"/>
                </a:solidFill>
                <a:uFillTx/>
                <a:latin typeface="Calibri"/>
              </a:rPr>
              <a:t>Rifampin</a:t>
            </a:r>
            <a:r>
              <a:rPr b="1" lang="en-US" sz="2800" spc="-1" strike="noStrike" u="sng">
                <a:solidFill>
                  <a:srgbClr val="4f6228"/>
                </a:solidFill>
                <a:uFillTx/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 gram positive bacteria results from a mutation in the chromosomal gene that code for the b subunit of RNA polymeras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عنصر نائب للتاريخ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D8711-7144-407B-A566-EC0EBA7E8C1C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عنصر نائب للتذييل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Dr. Adnan Jar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عنصر نائب لرقم الشريحة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6A2EB-34BF-4D88-A8DC-688A370A26B0}" type="slidenum">
              <a:rPr b="0" lang="ar-SA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800" spc="-1" strike="noStrike">
                <a:solidFill>
                  <a:srgbClr val="4f6228"/>
                </a:solidFill>
                <a:latin typeface="Calibri"/>
              </a:rPr>
              <a:t>Proposals to Combat Antimicrobial Resistanc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peed development of new antibioti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ck resistance data nationw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trict antimicrobial u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rect observed dosing (TB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more narrow spectrum antibioti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antimicrobial cocktai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عنصر نائب للتاريخ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B74B0-ED2F-4E12-8A34-F624665143FB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عنصر نائب لرقم الشريحة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4B058-9216-4692-AA0E-E7744E4E311A}" type="slidenum">
              <a:rPr b="0" lang="ar-SA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عنصر نائب للتذييل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Dr. Adnan Jar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0880" y="1295280"/>
            <a:ext cx="8382240" cy="419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r>
              <a:rPr b="1" lang="en-US" sz="4800" spc="-1" strike="noStrike">
                <a:solidFill>
                  <a:srgbClr val="4f6228"/>
                </a:solidFill>
                <a:latin typeface="Arial Black"/>
              </a:rPr>
              <a:t>Mechanisms of Action of bacterial resistance to different groups of antibacterial drugs</a:t>
            </a:r>
            <a:br>
              <a:rPr sz="4800"/>
            </a:b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4571640"/>
            <a:ext cx="64008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101" name="عنصر نائب للتاريخ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30A72-976A-4EF1-9A9E-062405EF6524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عنصر نائب للتذييل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Dr. Adnan Jar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عنصر نائب لرقم الشريحة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0AB64-08EE-4111-8CC2-4B3B55530355}" type="slidenum">
              <a:rPr b="0" lang="ar-SA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4f6228"/>
                </a:solidFill>
                <a:latin typeface="Calibri"/>
              </a:rPr>
              <a:t>Antimicrobial Resistance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Relative or complete lack of effect of antimicrobial against a </a:t>
            </a:r>
            <a:r>
              <a:rPr b="0" lang="en-US" sz="4000" spc="-1" strike="noStrike" u="sng">
                <a:solidFill>
                  <a:srgbClr val="ff0000"/>
                </a:solidFill>
                <a:uFillTx/>
                <a:latin typeface="Calibri"/>
              </a:rPr>
              <a:t>previously susceptible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microb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ncrease in Minimum Inhibitory Concentration (MIC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عنصر نائب للتاريخ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8F1F6-5BF6-4D1D-8B31-2CFDC178B191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عنصر نائب لرقم الشريحة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7799B-AC9A-4A63-A138-B84ABC29BCBA}" type="slidenum">
              <a:rPr b="0" lang="ar-SA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عنصر نائب للتذييل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Dr. Adnan Jar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304920" y="2743200"/>
            <a:ext cx="8610480" cy="32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11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nzymatic destruction of dru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11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vention of penetration of dru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11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lteration of drug's target si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11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apid ejection of the dru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838080" y="452160"/>
            <a:ext cx="753768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f6228"/>
                </a:solidFill>
                <a:latin typeface="Calibri"/>
              </a:rPr>
              <a:t>Mechanisms of Antibiotic Resistanc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عنصر نائب للتاريخ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D851E-6638-4681-AA3F-12887FCDFCBA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عنصر نائب لرقم الشريحة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077B6-A042-4B53-A53D-B0B7263C9AC3}" type="slidenum">
              <a:rPr b="0" lang="ar-SA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عنصر نائب للتذييل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Dr. Adnan Jar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f6228"/>
                </a:solidFill>
                <a:latin typeface="Calibri"/>
              </a:rPr>
              <a:t>What Factors Promote Antimicrobial Resistance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1905120"/>
            <a:ext cx="86104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posure to sub-optimal levels of antimicrobial (sub-inhibitory levels). leads to the survival and multiplication of resistant mutants</a:t>
            </a:r>
            <a:r>
              <a:rPr b="0" lang="en-US" sz="4000" spc="-1" strike="noStrike">
                <a:solidFill>
                  <a:srgbClr val="0000ff"/>
                </a:solidFill>
                <a:latin typeface="Calibri"/>
              </a:rPr>
              <a:t> (superbugs)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.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posure to microbes carrying resistance gen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عنصر نائب للتاريخ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8056D-C4FF-436A-BF3F-120D31E1C0C7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عنصر نائب لرقم الشريحة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8339C-3777-4E22-907B-E4B0C8A739D7}" type="slidenum">
              <a:rPr b="0" lang="ar-SA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عنصر نائب للتذييل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Dr. Adnan Jar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4f6228"/>
                </a:solidFill>
                <a:latin typeface="Calibri"/>
              </a:rPr>
              <a:t>Inappropriate Antimicrobial Use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escription not taken correctl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ntibiotics for viral infec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ntibiotics sold without medical supervi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pread of resistant microbes in hospitals due to lack of hygien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عنصر نائب للتاريخ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63AF5-B51F-437C-8591-1502B9C66906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عنصر نائب لرقم الشريحة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DE33C-29ED-4C8C-9865-1D7726B17146}" type="slidenum">
              <a:rPr b="0" lang="ar-SA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عنصر نائب للتذييل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Dr. Adnan Jar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4f6228"/>
                </a:solidFill>
                <a:latin typeface="Calibri"/>
              </a:rPr>
              <a:t>Inappropriate Antimicrobial Use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Lack of quality control in manufacture or outdated antimicrobia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Inadequate surveillance or defective susceptibility assay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Poverty or wa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Use of antibiotics in food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عنصر نائب للتاريخ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9F6C0-45BA-4735-AB00-AA140A37EC6B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عنصر نائب لرقم الشريحة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CE8CC-B2A9-4897-A76C-ED8D60CF9AD1}" type="slidenum">
              <a:rPr b="0" lang="ar-SA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عنصر نائب للتذييل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Dr. Adnan Jar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f6228"/>
                </a:solidFill>
                <a:latin typeface="Calibri"/>
              </a:rPr>
              <a:t>Troublesome superbugs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853416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ethicillin-Resistant </a:t>
            </a:r>
            <a:r>
              <a:rPr b="0" i="1" lang="en-US" sz="4000" spc="-1" strike="noStrike">
                <a:solidFill>
                  <a:srgbClr val="000000"/>
                </a:solidFill>
                <a:latin typeface="Calibri"/>
              </a:rPr>
              <a:t>Staphylococcus aureus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(MRSA), S. epidermidis (MRSE)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ost frequent nosocomial (hospital-acquired) pathoge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Usually resistant to several other antibiotic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عنصر نائب للتاريخ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A8486-76DE-4419-B425-7B4AB72E228D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عنصر نائب لرقم الشريحة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50983-C55D-4B2E-A9B9-A3D02E9894F3}" type="slidenum">
              <a:rPr b="0" lang="ar-SA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عنصر نائب للتذييل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Dr. Adnan Jar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mam</cp:lastModifiedBy>
  <dcterms:modified xsi:type="dcterms:W3CDTF">2010-12-23T19:26:17Z</dcterms:modified>
  <cp:revision>14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