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click.wav" ContentType="audio/x-wav"/>
  <Override PartName="/ppt/media/laser.wav" ContentType="audio/x-wav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CD5F4-9428-46F8-AA12-D85BE2CA15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7772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3713040"/>
            <a:ext cx="7772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F92D5-1D9D-4259-B29A-C4545ECE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06668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71304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371304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AF61A-4A79-4C08-A2E0-DAECD38F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25023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1066680"/>
            <a:ext cx="25023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1066680"/>
            <a:ext cx="25023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3713040"/>
            <a:ext cx="25023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3713040"/>
            <a:ext cx="25023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3713040"/>
            <a:ext cx="25023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15E07-330D-495A-97D6-4DCD26A4DC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1066680"/>
            <a:ext cx="77724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77724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3792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1066680"/>
            <a:ext cx="3792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1066680"/>
            <a:ext cx="3792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371304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1066680"/>
            <a:ext cx="7772400" cy="50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F915C-02C9-4555-B24D-8F17FA8F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3792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106668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371304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06668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3713040"/>
            <a:ext cx="7772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7772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3713040"/>
            <a:ext cx="7772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106668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371304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371304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25023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1066680"/>
            <a:ext cx="25023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1066680"/>
            <a:ext cx="25023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3713040"/>
            <a:ext cx="25023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3713040"/>
            <a:ext cx="25023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3713040"/>
            <a:ext cx="250236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77724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37BED-DEC5-40BC-88AC-E54EAA59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3792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1066680"/>
            <a:ext cx="3792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92899-04CE-46D8-B28B-444E4203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AC7E9-3AC1-4894-AC73-5F89A898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138AB-DBA4-4D74-8C5B-A71D22A6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1066680"/>
            <a:ext cx="3792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371304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D135F-46C9-43A3-B7CC-324E68C3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3792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106668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371304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A82C2-9E54-4D9B-B096-CBE3B3E0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106668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1066680"/>
            <a:ext cx="37926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3713040"/>
            <a:ext cx="777240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44784-579B-4714-A718-91974DAE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533520" y="668160"/>
            <a:ext cx="710640" cy="474840"/>
            <a:chOff x="533520" y="668160"/>
            <a:chExt cx="710640" cy="474840"/>
          </a:xfrm>
        </p:grpSpPr>
        <p:sp>
          <p:nvSpPr>
            <p:cNvPr id="2" name=""/>
            <p:cNvSpPr/>
            <p:nvPr/>
          </p:nvSpPr>
          <p:spPr>
            <a:xfrm>
              <a:off x="533520" y="668160"/>
              <a:ext cx="437760" cy="4748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5840" y="66816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417600" y="2602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00280" y="26028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27080" y="6094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62120" y="152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42800" y="94284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182600" y="1066680"/>
            <a:ext cx="77724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647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F892-A2F6-479D-969D-128172A1B5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1920" y="0"/>
            <a:ext cx="2525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YM: mitti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mittit2@yaho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90520" y="108000"/>
            <a:ext cx="711360" cy="474480"/>
            <a:chOff x="290520" y="108000"/>
            <a:chExt cx="711360" cy="474480"/>
          </a:xfrm>
        </p:grpSpPr>
        <p:sp>
          <p:nvSpPr>
            <p:cNvPr id="52" name=""/>
            <p:cNvSpPr/>
            <p:nvPr/>
          </p:nvSpPr>
          <p:spPr>
            <a:xfrm>
              <a:off x="290520" y="108000"/>
              <a:ext cx="438120" cy="47448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7320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14360" y="530280"/>
            <a:ext cx="737640" cy="474480"/>
            <a:chOff x="414360" y="530280"/>
            <a:chExt cx="737640" cy="474480"/>
          </a:xfrm>
        </p:grpSpPr>
        <p:sp>
          <p:nvSpPr>
            <p:cNvPr id="55" name=""/>
            <p:cNvSpPr/>
            <p:nvPr/>
          </p:nvSpPr>
          <p:spPr>
            <a:xfrm>
              <a:off x="414360" y="53028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3000" y="53028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6080" y="91404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dt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920" y="0"/>
            <a:ext cx="2525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YM: mitti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mittit2@yaho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laser.wav"/><Relationship Id="rId1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7920" y="883800"/>
            <a:ext cx="870264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Luật chơi :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Ô chữ gồm : 15 ô chữ hàng ngang và 1 ô chữ hình chữ S. Mỗi ô chữ hàng ngang là một nội dung kiến thức đã học kèm theo gợi ý.</a:t>
            </a:r>
            <a:br>
              <a:rPr sz="2800"/>
            </a:b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+ Lớp chia làm 2 đội. Lần lượt mỗi đội chọn ô chữ, đọc gợi ý và thảo luận trong 10 giây và đưa ra đáp án.</a:t>
            </a:r>
            <a:br>
              <a:rPr sz="2800"/>
            </a:b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+ Nhóm trả lời đúng được 10 điểm, sai bị trừ 5 điểm đồng thời nhường quyền cho đội bạn. Nếu đội bạn trả lời đúng sẽ được 5 điểm.</a:t>
            </a:r>
            <a:br>
              <a:rPr sz="2800"/>
            </a:b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+ Tìm được ô chữ hình chữ S được 20 điểm đồng thời trò chơi kết thúc.</a:t>
            </a:r>
            <a:br>
              <a:rPr sz="2800"/>
            </a:b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+ Nhóm thắng cuộc là nhóm ghi được nhiều điểm nhất.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 flipH="1">
            <a:off x="208080" y="870840"/>
            <a:ext cx="8681760" cy="42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 flipH="1">
            <a:off x="183960" y="6131880"/>
            <a:ext cx="8708760" cy="57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 flipH="1" rot="16200000">
            <a:off x="6240600" y="3489480"/>
            <a:ext cx="5346720" cy="54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 rot="5400000">
            <a:off x="-2421720" y="3493440"/>
            <a:ext cx="5270400" cy="5544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1130400" y="304920"/>
            <a:ext cx="6946920" cy="483480"/>
            <a:chOff x="1130400" y="304920"/>
            <a:chExt cx="6946920" cy="483480"/>
          </a:xfrm>
        </p:grpSpPr>
        <p:sp>
          <p:nvSpPr>
            <p:cNvPr id="106" name=""/>
            <p:cNvSpPr/>
            <p:nvPr/>
          </p:nvSpPr>
          <p:spPr>
            <a:xfrm>
              <a:off x="1130400" y="304920"/>
              <a:ext cx="693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TRÒ CHƠI: Ô CHỮ KỲ DIỆ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39760" y="328680"/>
              <a:ext cx="693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ahoma"/>
                </a:rPr>
                <a:t>TRÒ CHƠI: Ô CHỮ KỲ DIỆ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2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2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2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 flipH="1">
            <a:off x="250920" y="899280"/>
            <a:ext cx="8594640" cy="42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 flipH="1">
            <a:off x="183960" y="6131880"/>
            <a:ext cx="8708760" cy="57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 flipH="1" rot="16200000">
            <a:off x="6226200" y="3503160"/>
            <a:ext cx="5289480" cy="53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 rot="5400000">
            <a:off x="-2421720" y="3493440"/>
            <a:ext cx="5270400" cy="55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14240" y="6184800"/>
            <a:ext cx="804960" cy="4860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HỜI G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310520" y="-7920"/>
            <a:ext cx="1871640" cy="928800"/>
            <a:chOff x="7310520" y="-7920"/>
            <a:chExt cx="1871640" cy="928800"/>
          </a:xfrm>
        </p:grpSpPr>
        <p:sp>
          <p:nvSpPr>
            <p:cNvPr id="114" name=""/>
            <p:cNvSpPr/>
            <p:nvPr/>
          </p:nvSpPr>
          <p:spPr>
            <a:xfrm>
              <a:off x="7310520" y="-7920"/>
              <a:ext cx="1871640" cy="928800"/>
            </a:xfrm>
            <a:custGeom>
              <a:avLst/>
              <a:gdLst>
                <a:gd name="textAreaLeft" fmla="*/ 427320 w 1871640"/>
                <a:gd name="textAreaRight" fmla="*/ 1444320 w 1871640"/>
                <a:gd name="textAreaTop" fmla="*/ 212040 h 928800"/>
                <a:gd name="textAreaBottom" fmla="*/ 71676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80320" y="85680"/>
              <a:ext cx="869760" cy="70344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ahoma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7310520" y="-19080"/>
            <a:ext cx="1871640" cy="928800"/>
            <a:chOff x="7310520" y="-19080"/>
            <a:chExt cx="1871640" cy="928800"/>
          </a:xfrm>
        </p:grpSpPr>
        <p:sp>
          <p:nvSpPr>
            <p:cNvPr id="117" name=""/>
            <p:cNvSpPr/>
            <p:nvPr/>
          </p:nvSpPr>
          <p:spPr>
            <a:xfrm>
              <a:off x="7310520" y="-19080"/>
              <a:ext cx="1871640" cy="928800"/>
            </a:xfrm>
            <a:custGeom>
              <a:avLst/>
              <a:gdLst>
                <a:gd name="textAreaLeft" fmla="*/ 427320 w 1871640"/>
                <a:gd name="textAreaRight" fmla="*/ 1444320 w 1871640"/>
                <a:gd name="textAreaTop" fmla="*/ 212040 h 928800"/>
                <a:gd name="textAreaBottom" fmla="*/ 71676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780320" y="74520"/>
              <a:ext cx="869760" cy="70344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ahoma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310520" y="-23760"/>
            <a:ext cx="1871640" cy="928800"/>
            <a:chOff x="7310520" y="-23760"/>
            <a:chExt cx="1871640" cy="928800"/>
          </a:xfrm>
        </p:grpSpPr>
        <p:sp>
          <p:nvSpPr>
            <p:cNvPr id="120" name=""/>
            <p:cNvSpPr/>
            <p:nvPr/>
          </p:nvSpPr>
          <p:spPr>
            <a:xfrm>
              <a:off x="7310520" y="-23760"/>
              <a:ext cx="1871640" cy="928800"/>
            </a:xfrm>
            <a:custGeom>
              <a:avLst/>
              <a:gdLst>
                <a:gd name="textAreaLeft" fmla="*/ 427320 w 1871640"/>
                <a:gd name="textAreaRight" fmla="*/ 1444320 w 1871640"/>
                <a:gd name="textAreaTop" fmla="*/ 212040 h 928800"/>
                <a:gd name="textAreaBottom" fmla="*/ 71676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80320" y="69840"/>
              <a:ext cx="869760" cy="70344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ahoma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310520" y="-22320"/>
            <a:ext cx="1871640" cy="928800"/>
            <a:chOff x="7310520" y="-22320"/>
            <a:chExt cx="1871640" cy="928800"/>
          </a:xfrm>
        </p:grpSpPr>
        <p:sp>
          <p:nvSpPr>
            <p:cNvPr id="123" name=""/>
            <p:cNvSpPr/>
            <p:nvPr/>
          </p:nvSpPr>
          <p:spPr>
            <a:xfrm>
              <a:off x="7310520" y="-22320"/>
              <a:ext cx="1871640" cy="928800"/>
            </a:xfrm>
            <a:custGeom>
              <a:avLst/>
              <a:gdLst>
                <a:gd name="textAreaLeft" fmla="*/ 427320 w 1871640"/>
                <a:gd name="textAreaRight" fmla="*/ 1444320 w 1871640"/>
                <a:gd name="textAreaTop" fmla="*/ 212040 h 928800"/>
                <a:gd name="textAreaBottom" fmla="*/ 71676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80320" y="71280"/>
              <a:ext cx="869760" cy="70344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ahoma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310520" y="-22320"/>
            <a:ext cx="1871640" cy="928800"/>
            <a:chOff x="7310520" y="-22320"/>
            <a:chExt cx="1871640" cy="928800"/>
          </a:xfrm>
        </p:grpSpPr>
        <p:sp>
          <p:nvSpPr>
            <p:cNvPr id="126" name=""/>
            <p:cNvSpPr/>
            <p:nvPr/>
          </p:nvSpPr>
          <p:spPr>
            <a:xfrm>
              <a:off x="7310520" y="-22320"/>
              <a:ext cx="1871640" cy="928800"/>
            </a:xfrm>
            <a:custGeom>
              <a:avLst/>
              <a:gdLst>
                <a:gd name="textAreaLeft" fmla="*/ 427320 w 1871640"/>
                <a:gd name="textAreaRight" fmla="*/ 1444320 w 1871640"/>
                <a:gd name="textAreaTop" fmla="*/ 212040 h 928800"/>
                <a:gd name="textAreaBottom" fmla="*/ 71676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80320" y="71280"/>
              <a:ext cx="869760" cy="70344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ahoma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7310520" y="-36360"/>
            <a:ext cx="1871640" cy="928440"/>
            <a:chOff x="7310520" y="-36360"/>
            <a:chExt cx="1871640" cy="928440"/>
          </a:xfrm>
        </p:grpSpPr>
        <p:sp>
          <p:nvSpPr>
            <p:cNvPr id="129" name=""/>
            <p:cNvSpPr/>
            <p:nvPr/>
          </p:nvSpPr>
          <p:spPr>
            <a:xfrm>
              <a:off x="7310520" y="-36360"/>
              <a:ext cx="1871640" cy="928440"/>
            </a:xfrm>
            <a:custGeom>
              <a:avLst/>
              <a:gdLst>
                <a:gd name="textAreaLeft" fmla="*/ 427320 w 1871640"/>
                <a:gd name="textAreaRight" fmla="*/ 1444320 w 1871640"/>
                <a:gd name="textAreaTop" fmla="*/ 211680 h 928440"/>
                <a:gd name="textAreaBottom" fmla="*/ 716760 h 9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80320" y="56880"/>
              <a:ext cx="86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ahoma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310520" y="-36360"/>
            <a:ext cx="1871640" cy="928440"/>
            <a:chOff x="7310520" y="-36360"/>
            <a:chExt cx="1871640" cy="928440"/>
          </a:xfrm>
        </p:grpSpPr>
        <p:sp>
          <p:nvSpPr>
            <p:cNvPr id="132" name=""/>
            <p:cNvSpPr/>
            <p:nvPr/>
          </p:nvSpPr>
          <p:spPr>
            <a:xfrm>
              <a:off x="7310520" y="-36360"/>
              <a:ext cx="1871640" cy="928440"/>
            </a:xfrm>
            <a:custGeom>
              <a:avLst/>
              <a:gdLst>
                <a:gd name="textAreaLeft" fmla="*/ 427320 w 1871640"/>
                <a:gd name="textAreaRight" fmla="*/ 1444320 w 1871640"/>
                <a:gd name="textAreaTop" fmla="*/ 211680 h 928440"/>
                <a:gd name="textAreaBottom" fmla="*/ 716760 h 9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80320" y="56880"/>
              <a:ext cx="86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ahoma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7324560" y="-22320"/>
            <a:ext cx="1871640" cy="928800"/>
            <a:chOff x="7324560" y="-22320"/>
            <a:chExt cx="1871640" cy="928800"/>
          </a:xfrm>
        </p:grpSpPr>
        <p:sp>
          <p:nvSpPr>
            <p:cNvPr id="135" name=""/>
            <p:cNvSpPr/>
            <p:nvPr/>
          </p:nvSpPr>
          <p:spPr>
            <a:xfrm>
              <a:off x="7324560" y="-22320"/>
              <a:ext cx="1871640" cy="928800"/>
            </a:xfrm>
            <a:custGeom>
              <a:avLst/>
              <a:gdLst>
                <a:gd name="textAreaLeft" fmla="*/ 427320 w 1871640"/>
                <a:gd name="textAreaRight" fmla="*/ 1444320 w 1871640"/>
                <a:gd name="textAreaTop" fmla="*/ 212040 h 928800"/>
                <a:gd name="textAreaBottom" fmla="*/ 71676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94360" y="71280"/>
              <a:ext cx="86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ahoma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318440" y="-22320"/>
            <a:ext cx="1871640" cy="928800"/>
            <a:chOff x="7318440" y="-22320"/>
            <a:chExt cx="1871640" cy="928800"/>
          </a:xfrm>
        </p:grpSpPr>
        <p:sp>
          <p:nvSpPr>
            <p:cNvPr id="138" name=""/>
            <p:cNvSpPr/>
            <p:nvPr/>
          </p:nvSpPr>
          <p:spPr>
            <a:xfrm>
              <a:off x="7318440" y="-22320"/>
              <a:ext cx="1871640" cy="928800"/>
            </a:xfrm>
            <a:custGeom>
              <a:avLst/>
              <a:gdLst>
                <a:gd name="textAreaLeft" fmla="*/ 427320 w 1871640"/>
                <a:gd name="textAreaRight" fmla="*/ 1444320 w 1871640"/>
                <a:gd name="textAreaTop" fmla="*/ 212040 h 928800"/>
                <a:gd name="textAreaBottom" fmla="*/ 71676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88240" y="71280"/>
              <a:ext cx="86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ahoma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310520" y="-20520"/>
            <a:ext cx="1871640" cy="928440"/>
            <a:chOff x="7310520" y="-20520"/>
            <a:chExt cx="1871640" cy="928440"/>
          </a:xfrm>
        </p:grpSpPr>
        <p:sp>
          <p:nvSpPr>
            <p:cNvPr id="141" name=""/>
            <p:cNvSpPr/>
            <p:nvPr/>
          </p:nvSpPr>
          <p:spPr>
            <a:xfrm>
              <a:off x="7310520" y="-20520"/>
              <a:ext cx="1871640" cy="928440"/>
            </a:xfrm>
            <a:custGeom>
              <a:avLst/>
              <a:gdLst>
                <a:gd name="textAreaLeft" fmla="*/ 427320 w 1871640"/>
                <a:gd name="textAreaRight" fmla="*/ 1444320 w 1871640"/>
                <a:gd name="textAreaTop" fmla="*/ 211680 h 928440"/>
                <a:gd name="textAreaBottom" fmla="*/ 716760 h 9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80320" y="72720"/>
              <a:ext cx="86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ahoma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7773840" y="239760"/>
            <a:ext cx="9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162920" y="-27000"/>
            <a:ext cx="2133360" cy="928800"/>
            <a:chOff x="7162920" y="-27000"/>
            <a:chExt cx="2133360" cy="928800"/>
          </a:xfrm>
        </p:grpSpPr>
        <p:sp>
          <p:nvSpPr>
            <p:cNvPr id="145" name=""/>
            <p:cNvSpPr/>
            <p:nvPr/>
          </p:nvSpPr>
          <p:spPr>
            <a:xfrm>
              <a:off x="7300800" y="-27000"/>
              <a:ext cx="1871280" cy="928800"/>
            </a:xfrm>
            <a:custGeom>
              <a:avLst/>
              <a:gdLst>
                <a:gd name="textAreaLeft" fmla="*/ 426960 w 1871280"/>
                <a:gd name="textAreaRight" fmla="*/ 1444320 w 1871280"/>
                <a:gd name="textAreaTop" fmla="*/ 212040 h 928800"/>
                <a:gd name="textAreaBottom" fmla="*/ 71676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2920" y="2095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HẾT GI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130400" y="304920"/>
            <a:ext cx="6946920" cy="483480"/>
            <a:chOff x="1130400" y="304920"/>
            <a:chExt cx="6946920" cy="483480"/>
          </a:xfrm>
        </p:grpSpPr>
        <p:sp>
          <p:nvSpPr>
            <p:cNvPr id="148" name=""/>
            <p:cNvSpPr/>
            <p:nvPr/>
          </p:nvSpPr>
          <p:spPr>
            <a:xfrm>
              <a:off x="1130400" y="304920"/>
              <a:ext cx="693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ahoma"/>
                </a:rPr>
                <a:t>TRÒ CHƠI: Ô CHỮ KỲ DIỆ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39760" y="328680"/>
              <a:ext cx="693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ahoma"/>
                </a:rPr>
                <a:t>TRÒ CHƠI: Ô CHỮ KỲ DIỆ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0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hú ý: để sử dụng được bài giảng này, các bạn Vào menu Tool-&gt; Option-&gt; chon tab Security và chọn như hình dưới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017720" y="1179360"/>
            <a:ext cx="7212240" cy="5409360"/>
            <a:chOff x="1017720" y="1179360"/>
            <a:chExt cx="7212240" cy="5409360"/>
          </a:xfrm>
        </p:grpSpPr>
        <p:grpSp>
          <p:nvGrpSpPr>
            <p:cNvPr id="152" name=""/>
            <p:cNvGrpSpPr/>
            <p:nvPr/>
          </p:nvGrpSpPr>
          <p:grpSpPr>
            <a:xfrm>
              <a:off x="1017720" y="1179360"/>
              <a:ext cx="7212240" cy="5409360"/>
              <a:chOff x="1017720" y="1179360"/>
              <a:chExt cx="7212240" cy="540936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1017720" y="1179360"/>
                <a:ext cx="7212240" cy="5409360"/>
                <a:chOff x="1017720" y="1179360"/>
                <a:chExt cx="7212240" cy="5409360"/>
              </a:xfrm>
            </p:grpSpPr>
            <p:grpSp>
              <p:nvGrpSpPr>
                <p:cNvPr id="154" name=""/>
                <p:cNvGrpSpPr/>
                <p:nvPr/>
              </p:nvGrpSpPr>
              <p:grpSpPr>
                <a:xfrm>
                  <a:off x="1017720" y="1179360"/>
                  <a:ext cx="7212240" cy="5409360"/>
                  <a:chOff x="1017720" y="1179360"/>
                  <a:chExt cx="7212240" cy="5409360"/>
                </a:xfrm>
              </p:grpSpPr>
              <p:pic>
                <p:nvPicPr>
                  <p:cNvPr id="155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017720" y="1179360"/>
                    <a:ext cx="7212240" cy="540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6" name=""/>
                  <p:cNvSpPr/>
                  <p:nvPr/>
                </p:nvSpPr>
                <p:spPr>
                  <a:xfrm>
                    <a:off x="2572200" y="1290240"/>
                    <a:ext cx="390600" cy="323280"/>
                  </a:xfrm>
                  <a:prstGeom prst="ellipse">
                    <a:avLst/>
                  </a:prstGeom>
                  <a:noFill/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"/>
                <p:cNvSpPr/>
                <p:nvPr/>
              </p:nvSpPr>
              <p:spPr>
                <a:xfrm>
                  <a:off x="4121640" y="2584440"/>
                  <a:ext cx="632880" cy="215280"/>
                </a:xfrm>
                <a:prstGeom prst="ellipse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2706120" y="1241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862800" y="24832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95280" y="40068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ahom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055120" y="2267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Tahom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2" name="" descr=""/>
            <p:cNvPicPr/>
            <p:nvPr/>
          </p:nvPicPr>
          <p:blipFill>
            <a:blip r:embed="rId2"/>
            <a:srcRect l="21703" t="5956" r="53834" b="57307"/>
            <a:stretch/>
          </p:blipFill>
          <p:spPr>
            <a:xfrm>
              <a:off x="1881360" y="1700280"/>
              <a:ext cx="146016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1955880" y="3149640"/>
              <a:ext cx="1168200" cy="2793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13:22:04Z</dcterms:created>
  <dc:creator>CENTEA</dc:creator>
  <dc:description/>
  <cp:keywords>giaovien.net</cp:keywords>
  <dc:language>en-US</dc:language>
  <cp:lastModifiedBy>NGUYEN TIEN LUC</cp:lastModifiedBy>
  <dcterms:modified xsi:type="dcterms:W3CDTF">2008-11-16T11:22:22Z</dcterms:modified>
  <cp:revision>111</cp:revision>
  <dc:subject/>
  <dc:title>Tao o chu bang VB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CENTEA Data</vt:lpwstr>
  </property>
</Properties>
</file>