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lick.wav" ContentType="audio/x-wav"/>
  <Override PartName="/ppt/media/laser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DDA3-7FD4-41E6-87E0-2FFC879DC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5587-4600-476E-BAFF-A3FF308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4819-7870-462F-B998-7780F5F8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D0A2-5391-47EC-BE99-856492EF7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5374-1F90-4971-B965-B4D0D1C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57F5-06E0-4E50-BA83-E9BA59C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B3AA-EDC3-4C30-B077-99087A3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D529-4078-4C90-A59D-6510FEEC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C230-FB25-4050-B5E5-A0A3539D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0116-3862-4793-9301-DB08014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5A6E-0DC4-4D35-9D89-6BE828E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0610-4FAB-460D-A1E2-533A30E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3520" y="668160"/>
            <a:ext cx="710640" cy="474840"/>
            <a:chOff x="533520" y="668160"/>
            <a:chExt cx="710640" cy="474840"/>
          </a:xfrm>
        </p:grpSpPr>
        <p:sp>
          <p:nvSpPr>
            <p:cNvPr id="2" name=""/>
            <p:cNvSpPr/>
            <p:nvPr/>
          </p:nvSpPr>
          <p:spPr>
            <a:xfrm>
              <a:off x="533520" y="668160"/>
              <a:ext cx="437760" cy="474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5840" y="66816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647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69F-C561-4FD5-947C-B6589042B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920" y="0"/>
            <a:ext cx="2525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YM: mitt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mittit2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0520" y="108000"/>
            <a:ext cx="711360" cy="474480"/>
            <a:chOff x="290520" y="108000"/>
            <a:chExt cx="711360" cy="474480"/>
          </a:xfrm>
        </p:grpSpPr>
        <p:sp>
          <p:nvSpPr>
            <p:cNvPr id="52" name=""/>
            <p:cNvSpPr/>
            <p:nvPr/>
          </p:nvSpPr>
          <p:spPr>
            <a:xfrm>
              <a:off x="290520" y="108000"/>
              <a:ext cx="438120" cy="4744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320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14360" y="530280"/>
            <a:ext cx="737640" cy="474480"/>
            <a:chOff x="414360" y="530280"/>
            <a:chExt cx="737640" cy="474480"/>
          </a:xfrm>
        </p:grpSpPr>
        <p:sp>
          <p:nvSpPr>
            <p:cNvPr id="55" name=""/>
            <p:cNvSpPr/>
            <p:nvPr/>
          </p:nvSpPr>
          <p:spPr>
            <a:xfrm>
              <a:off x="414360" y="53028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000" y="53028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6080" y="91404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0" y="0"/>
            <a:ext cx="2525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YM: mitt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mittit2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920" y="883800"/>
            <a:ext cx="870264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ật chơi :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Ô chữ gồm : 15 ô chữ hàng ngang và 1 ô chữ hình chữ S. Mỗi ô chữ hàng ngang là một nội dung kiến thức đã học kèm theo gợi ý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Lớp chia làm 2 đội. Lần lượt mỗi đội chọn ô chữ, đọc gợi ý và thảo luận trong 10 giây và đưa ra đáp án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Nhóm trả lời đúng được 10 điểm, sai bị trừ 5 điểm đồng thời nhường quyền cho đội bạn. Nếu đội bạn trả lời đúng sẽ được 5 điểm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Tìm được ô chữ hình chữ S được 20 điểm đồng thời trò chơi kết thúc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Nhóm thắng cuộc là nhóm ghi được nhiều điểm nhất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208080" y="870840"/>
            <a:ext cx="8681760" cy="4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>
            <a:off x="183960" y="6131880"/>
            <a:ext cx="8708760" cy="5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flipH="1" rot="16200000">
            <a:off x="6240600" y="3489480"/>
            <a:ext cx="5346720" cy="5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5400000">
            <a:off x="-2421720" y="3493440"/>
            <a:ext cx="5270400" cy="55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130400" y="304920"/>
            <a:ext cx="6946920" cy="483480"/>
            <a:chOff x="1130400" y="304920"/>
            <a:chExt cx="6946920" cy="483480"/>
          </a:xfrm>
        </p:grpSpPr>
        <p:sp>
          <p:nvSpPr>
            <p:cNvPr id="106" name=""/>
            <p:cNvSpPr/>
            <p:nvPr/>
          </p:nvSpPr>
          <p:spPr>
            <a:xfrm>
              <a:off x="1130400" y="304920"/>
              <a:ext cx="69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760" y="328680"/>
              <a:ext cx="69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flipH="1">
            <a:off x="250920" y="899280"/>
            <a:ext cx="8594640" cy="4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flipH="1">
            <a:off x="183960" y="6131880"/>
            <a:ext cx="8708760" cy="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 rot="16200000">
            <a:off x="6226200" y="3503160"/>
            <a:ext cx="5289480" cy="5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5400000">
            <a:off x="-2421720" y="3493440"/>
            <a:ext cx="5270400" cy="55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4240" y="6184800"/>
            <a:ext cx="804960" cy="486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ỜI G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310520" y="-7920"/>
            <a:ext cx="1871640" cy="928800"/>
            <a:chOff x="7310520" y="-7920"/>
            <a:chExt cx="1871640" cy="928800"/>
          </a:xfrm>
        </p:grpSpPr>
        <p:sp>
          <p:nvSpPr>
            <p:cNvPr id="114" name=""/>
            <p:cNvSpPr/>
            <p:nvPr/>
          </p:nvSpPr>
          <p:spPr>
            <a:xfrm>
              <a:off x="7310520" y="-79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80320" y="856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310520" y="-19080"/>
            <a:ext cx="1871640" cy="928800"/>
            <a:chOff x="7310520" y="-19080"/>
            <a:chExt cx="1871640" cy="928800"/>
          </a:xfrm>
        </p:grpSpPr>
        <p:sp>
          <p:nvSpPr>
            <p:cNvPr id="117" name=""/>
            <p:cNvSpPr/>
            <p:nvPr/>
          </p:nvSpPr>
          <p:spPr>
            <a:xfrm>
              <a:off x="7310520" y="-1908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80320" y="7452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310520" y="-23760"/>
            <a:ext cx="1871640" cy="928800"/>
            <a:chOff x="7310520" y="-23760"/>
            <a:chExt cx="1871640" cy="928800"/>
          </a:xfrm>
        </p:grpSpPr>
        <p:sp>
          <p:nvSpPr>
            <p:cNvPr id="120" name=""/>
            <p:cNvSpPr/>
            <p:nvPr/>
          </p:nvSpPr>
          <p:spPr>
            <a:xfrm>
              <a:off x="7310520" y="-2376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80320" y="6984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310520" y="-22320"/>
            <a:ext cx="1871640" cy="928800"/>
            <a:chOff x="7310520" y="-22320"/>
            <a:chExt cx="1871640" cy="928800"/>
          </a:xfrm>
        </p:grpSpPr>
        <p:sp>
          <p:nvSpPr>
            <p:cNvPr id="123" name=""/>
            <p:cNvSpPr/>
            <p:nvPr/>
          </p:nvSpPr>
          <p:spPr>
            <a:xfrm>
              <a:off x="731052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80320" y="712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310520" y="-22320"/>
            <a:ext cx="1871640" cy="928800"/>
            <a:chOff x="7310520" y="-22320"/>
            <a:chExt cx="1871640" cy="928800"/>
          </a:xfrm>
        </p:grpSpPr>
        <p:sp>
          <p:nvSpPr>
            <p:cNvPr id="126" name=""/>
            <p:cNvSpPr/>
            <p:nvPr/>
          </p:nvSpPr>
          <p:spPr>
            <a:xfrm>
              <a:off x="731052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0320" y="712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310520" y="-36360"/>
            <a:ext cx="1871640" cy="928440"/>
            <a:chOff x="7310520" y="-36360"/>
            <a:chExt cx="1871640" cy="928440"/>
          </a:xfrm>
        </p:grpSpPr>
        <p:sp>
          <p:nvSpPr>
            <p:cNvPr id="129" name=""/>
            <p:cNvSpPr/>
            <p:nvPr/>
          </p:nvSpPr>
          <p:spPr>
            <a:xfrm>
              <a:off x="7310520" y="-3636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80320" y="568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310520" y="-36360"/>
            <a:ext cx="1871640" cy="928440"/>
            <a:chOff x="7310520" y="-36360"/>
            <a:chExt cx="1871640" cy="928440"/>
          </a:xfrm>
        </p:grpSpPr>
        <p:sp>
          <p:nvSpPr>
            <p:cNvPr id="132" name=""/>
            <p:cNvSpPr/>
            <p:nvPr/>
          </p:nvSpPr>
          <p:spPr>
            <a:xfrm>
              <a:off x="7310520" y="-3636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0320" y="568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24560" y="-22320"/>
            <a:ext cx="1871640" cy="928800"/>
            <a:chOff x="7324560" y="-22320"/>
            <a:chExt cx="1871640" cy="928800"/>
          </a:xfrm>
        </p:grpSpPr>
        <p:sp>
          <p:nvSpPr>
            <p:cNvPr id="135" name=""/>
            <p:cNvSpPr/>
            <p:nvPr/>
          </p:nvSpPr>
          <p:spPr>
            <a:xfrm>
              <a:off x="732456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94360" y="712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318440" y="-22320"/>
            <a:ext cx="1871640" cy="928800"/>
            <a:chOff x="7318440" y="-22320"/>
            <a:chExt cx="1871640" cy="928800"/>
          </a:xfrm>
        </p:grpSpPr>
        <p:sp>
          <p:nvSpPr>
            <p:cNvPr id="138" name=""/>
            <p:cNvSpPr/>
            <p:nvPr/>
          </p:nvSpPr>
          <p:spPr>
            <a:xfrm>
              <a:off x="731844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12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310520" y="-20520"/>
            <a:ext cx="1871640" cy="928440"/>
            <a:chOff x="7310520" y="-20520"/>
            <a:chExt cx="1871640" cy="928440"/>
          </a:xfrm>
        </p:grpSpPr>
        <p:sp>
          <p:nvSpPr>
            <p:cNvPr id="141" name=""/>
            <p:cNvSpPr/>
            <p:nvPr/>
          </p:nvSpPr>
          <p:spPr>
            <a:xfrm>
              <a:off x="7310520" y="-2052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80320" y="7272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73840" y="239760"/>
            <a:ext cx="9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162920" y="-27000"/>
            <a:ext cx="2133360" cy="928800"/>
            <a:chOff x="7162920" y="-27000"/>
            <a:chExt cx="2133360" cy="928800"/>
          </a:xfrm>
        </p:grpSpPr>
        <p:sp>
          <p:nvSpPr>
            <p:cNvPr id="145" name=""/>
            <p:cNvSpPr/>
            <p:nvPr/>
          </p:nvSpPr>
          <p:spPr>
            <a:xfrm>
              <a:off x="7300800" y="-27000"/>
              <a:ext cx="1871280" cy="928800"/>
            </a:xfrm>
            <a:custGeom>
              <a:avLst/>
              <a:gdLst>
                <a:gd name="textAreaLeft" fmla="*/ 426960 w 1871280"/>
                <a:gd name="textAreaRight" fmla="*/ 1444320 w 187128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209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HẾT GI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30400" y="304920"/>
            <a:ext cx="6946920" cy="483480"/>
            <a:chOff x="1130400" y="304920"/>
            <a:chExt cx="6946920" cy="483480"/>
          </a:xfrm>
        </p:grpSpPr>
        <p:sp>
          <p:nvSpPr>
            <p:cNvPr id="148" name=""/>
            <p:cNvSpPr/>
            <p:nvPr/>
          </p:nvSpPr>
          <p:spPr>
            <a:xfrm>
              <a:off x="1130400" y="304920"/>
              <a:ext cx="69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39760" y="328680"/>
              <a:ext cx="69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ú ý: để sử dụng được bài giảng này, các bạn Vào menu Tool-&gt; Option-&gt; chon tab Security và chọn như hình dưới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17720" y="1179360"/>
            <a:ext cx="7212240" cy="5409360"/>
            <a:chOff x="1017720" y="1179360"/>
            <a:chExt cx="7212240" cy="5409360"/>
          </a:xfrm>
        </p:grpSpPr>
        <p:grpSp>
          <p:nvGrpSpPr>
            <p:cNvPr id="152" name=""/>
            <p:cNvGrpSpPr/>
            <p:nvPr/>
          </p:nvGrpSpPr>
          <p:grpSpPr>
            <a:xfrm>
              <a:off x="1017720" y="1179360"/>
              <a:ext cx="7212240" cy="5409360"/>
              <a:chOff x="1017720" y="1179360"/>
              <a:chExt cx="7212240" cy="54093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017720" y="1179360"/>
                <a:ext cx="7212240" cy="5409360"/>
                <a:chOff x="1017720" y="1179360"/>
                <a:chExt cx="7212240" cy="540936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017720" y="1179360"/>
                  <a:ext cx="7212240" cy="5409360"/>
                  <a:chOff x="1017720" y="1179360"/>
                  <a:chExt cx="7212240" cy="5409360"/>
                </a:xfrm>
              </p:grpSpPr>
              <p:pic>
                <p:nvPicPr>
                  <p:cNvPr id="15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17720" y="1179360"/>
                    <a:ext cx="7212240" cy="54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" name=""/>
                  <p:cNvSpPr/>
                  <p:nvPr/>
                </p:nvSpPr>
                <p:spPr>
                  <a:xfrm>
                    <a:off x="2572200" y="1290240"/>
                    <a:ext cx="390600" cy="32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4121640" y="2584440"/>
                  <a:ext cx="632880" cy="21528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2706120" y="124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2800" y="2483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95280" y="4006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55120" y="2267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ahom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" name="" descr=""/>
            <p:cNvPicPr/>
            <p:nvPr/>
          </p:nvPicPr>
          <p:blipFill>
            <a:blip r:embed="rId2"/>
            <a:srcRect l="21703" t="5956" r="53834" b="57307"/>
            <a:stretch/>
          </p:blipFill>
          <p:spPr>
            <a:xfrm>
              <a:off x="1881360" y="1700280"/>
              <a:ext cx="146016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955880" y="3149640"/>
              <a:ext cx="1168200" cy="279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3:22:04Z</dcterms:created>
  <dc:creator>CENTEA</dc:creator>
  <dc:description/>
  <cp:keywords>giaovien.net</cp:keywords>
  <dc:language>en-US</dc:language>
  <cp:lastModifiedBy>NGUYEN TIEN LUC</cp:lastModifiedBy>
  <dcterms:modified xsi:type="dcterms:W3CDTF">2008-11-16T11:22:22Z</dcterms:modified>
  <cp:revision>111</cp:revision>
  <dc:subject/>
  <dc:title>Tao o chu bang VB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CENTEA Data</vt:lpwstr>
  </property>
</Properties>
</file>