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BB1D-58EA-4DEA-949C-544B57CB4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1146-1BE7-4636-9A9B-E0399FFE41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2F12-1D40-4E5A-A907-DE6BF113B5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80CD-EEF4-4DA0-A54A-614E861AC9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0890-5E3C-4719-87BB-EC5509877B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521A-BADD-4C98-85B4-0B97EF7B2B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F853-830D-4BA8-A04C-9BE85B2C08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F09-1CE8-45BF-8745-A527DDA8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A6B-8757-438A-B24E-AD6027FA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99CE-2B28-4537-863B-2C031E81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606C-82ED-4559-A424-33D852CA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12AA-ABAF-4F11-9F2F-81A88DEB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6D9-D87F-41BD-8C38-E82E9D94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7A2-9474-400F-AE54-97746058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DE9-D5B5-4463-A33F-4BD3C2C0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E33-0E19-4A66-A2A5-3D7D3DF0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1166-4852-4C97-8046-BCFC6B7A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2827-B090-4DE0-AA9A-CAE0D4B1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32CE-4A22-40AE-A2D1-818AC7D4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3A61-3C93-4220-93AE-18BFF3547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000000"/>
                </a:solidFill>
                <a:latin typeface="Calibri"/>
              </a:rPr>
              <a:t>Praktikum ke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1447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000000"/>
                </a:solidFill>
                <a:latin typeface="Calibri"/>
              </a:rPr>
              <a:t>Penentuan Status Kesuburan Perai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3048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alibri"/>
              </a:rPr>
              <a:t>Latihan S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6840" y="762120"/>
            <a:ext cx="85345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Berikut ini adalah data kualitas perairan Danau Lido pada tahun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14400" y="1371600"/>
          <a:ext cx="6781680" cy="4114800"/>
        </p:xfrm>
        <a:graphic>
          <a:graphicData uri="http://schemas.openxmlformats.org/drawingml/2006/table">
            <a:tbl>
              <a:tblPr/>
              <a:tblGrid>
                <a:gridCol w="380880"/>
                <a:gridCol w="1714680"/>
                <a:gridCol w="952560"/>
                <a:gridCol w="1676160"/>
                <a:gridCol w="2057400"/>
              </a:tblGrid>
              <a:tr h="4575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la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siu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siun </a:t>
                      </a: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chi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l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id-ID" sz="20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4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4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hosp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ofosf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9" name="TextBox 4"/>
          <p:cNvSpPr/>
          <p:nvPr/>
        </p:nvSpPr>
        <p:spPr>
          <a:xfrm>
            <a:off x="838080" y="5562720"/>
            <a:ext cx="7315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Tentukan tingkat kesuburan Danau Lido berdasarkan hasil perhitungan </a:t>
            </a:r>
            <a:r>
              <a:rPr b="1" lang="id-ID" sz="2400" spc="-1" strike="noStrike">
                <a:solidFill>
                  <a:srgbClr val="000000"/>
                </a:solidFill>
                <a:latin typeface="Arial"/>
                <a:ea typeface="Arial"/>
              </a:rPr>
              <a:t>TSI Carlson dan TR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3048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alibri"/>
              </a:rPr>
              <a:t>Latihan S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609480"/>
            <a:ext cx="85345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1. Berikut ini adalah data kualitas perairan Danau Limboto pada tahun 200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14400" y="1066680"/>
          <a:ext cx="6999120" cy="4114800"/>
        </p:xfrm>
        <a:graphic>
          <a:graphicData uri="http://schemas.openxmlformats.org/drawingml/2006/table">
            <a:tbl>
              <a:tblPr/>
              <a:tblGrid>
                <a:gridCol w="380880"/>
                <a:gridCol w="1714680"/>
                <a:gridCol w="770040"/>
                <a:gridCol w="1009440"/>
                <a:gridCol w="1011240"/>
                <a:gridCol w="1009800"/>
                <a:gridCol w="1103040"/>
              </a:tblGrid>
              <a:tr h="4575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me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u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la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siu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siu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siun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siun </a:t>
                      </a:r>
                      <a:r>
                        <a:rPr b="1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h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°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chi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l-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1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3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hosp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tr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ofosf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/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</a:t>
                      </a:r>
                      <a:r>
                        <a:rPr b="0" lang="id-ID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3" name="TextBox 4"/>
          <p:cNvSpPr/>
          <p:nvPr/>
        </p:nvSpPr>
        <p:spPr>
          <a:xfrm>
            <a:off x="914400" y="5715000"/>
            <a:ext cx="7315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Tentukan tingkat kesuburan Danau Limboto berdasarkan hasil perhitungan </a:t>
            </a:r>
            <a:r>
              <a:rPr b="1" lang="id-ID" sz="2400" spc="-1" strike="noStrike">
                <a:solidFill>
                  <a:srgbClr val="000000"/>
                </a:solidFill>
                <a:latin typeface="Arial"/>
                <a:ea typeface="Arial"/>
              </a:rPr>
              <a:t>TSI Carlson dan TR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4400" spc="-1" strike="noStrike">
                <a:solidFill>
                  <a:srgbClr val="000000"/>
                </a:solidFill>
                <a:latin typeface="Arial"/>
                <a:ea typeface="Arial"/>
              </a:rPr>
              <a:t>Kesuburan Perai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240" y="1905120"/>
            <a:ext cx="6629400" cy="3124080"/>
          </a:xfrm>
          <a:prstGeom prst="rect">
            <a:avLst/>
          </a:prstGeom>
          <a:solidFill>
            <a:srgbClr val="d7e4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Kesuburan perairan merupakan kapasitas atau kemampuan perairan untuk menyediakan unsur hara yang sesuai untuk kehidupan fitoplankton sehingga dapat menghasilkan produksi yang optimu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Namun, jika unsur hara di perairan terlalu berlebihan maka dapat mengakibatkan </a:t>
            </a:r>
            <a:r>
              <a:rPr b="1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eutrofikasi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 yang memicu terjadinya perubahan-perubahan yang tidak dikehenda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1219320" y="1444680"/>
            <a:ext cx="6933960" cy="375300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000000"/>
                </a:solidFill>
                <a:latin typeface="Arial"/>
              </a:rPr>
              <a:t>Perubahan-perubahan yang terjadi akibat eutrofika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Penurunan konsentrasi oksigen terlarut pada lapisan hipolim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Peningkatan konsentrasi N dan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Peningkatan suspended solid (terutama material organ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Penurunan penetrasi cahaya (kecerahan menuru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Terjadi blooming alg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Sedimentasi tin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eragaman jenis alga rendah, namun kelimpahan ting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Sumber: USEPA  </a:t>
            </a:r>
            <a:r>
              <a:rPr b="0" i="1" lang="id-ID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Henderson-Seller&amp;Markland (198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457200" y="5335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rophic State Index (T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066680" y="1143000"/>
            <a:ext cx="7543800" cy="2838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Indeks Status Trofik (Trophic State Index/TSI) dikembangkan oleh Carlson (197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digunakan untuk mengetahui tingkat kesuburan perairan danau berdasarkan beberapa parameter yang menggambarkan kesuburan perairan, yai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onsentrasi total fosfat (TSI-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onsentrasi klorofil-a (TSI-Chl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edalaman keping Secchi (TSI-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066680" y="4114800"/>
            <a:ext cx="51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Arial"/>
              </a:rPr>
              <a:t>Mengapa dipilih ketiga parameter tersebu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066680" y="4572000"/>
            <a:ext cx="7543800" cy="19234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Materi unsur hara yang masuk ke perairan danau berupa </a:t>
            </a:r>
            <a:r>
              <a:rPr b="1" lang="id-ID" sz="2000" spc="-1" strike="noStrike">
                <a:solidFill>
                  <a:srgbClr val="00b050"/>
                </a:solidFill>
                <a:latin typeface="Arial"/>
              </a:rPr>
              <a:t>fosfat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akan menyebabkan terjadinya pertumbuhan fitoplankton yang terlihat dari konsentrasi </a:t>
            </a:r>
            <a:r>
              <a:rPr b="1" lang="id-ID" sz="2000" spc="-1" strike="noStrike">
                <a:solidFill>
                  <a:srgbClr val="00b050"/>
                </a:solidFill>
                <a:latin typeface="Arial"/>
              </a:rPr>
              <a:t>klorofil-a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.  Kepadatan fitoplankton akan menyebabkan terhambatnya cahaya yang masuk ke dalam kolom perairan danau yang ditandai dengan makin berkurangnya tingkat </a:t>
            </a:r>
            <a:r>
              <a:rPr b="1" lang="id-ID" sz="2000" spc="-1" strike="noStrike">
                <a:solidFill>
                  <a:srgbClr val="00b050"/>
                </a:solidFill>
                <a:latin typeface="Arial"/>
              </a:rPr>
              <a:t>kecerahan perairan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Perhitung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rophic State Index (TSI)</a:t>
            </a:r>
            <a:r>
              <a:rPr b="1" lang="id-ID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id-ID" sz="2400" spc="-1" strike="noStrike">
                <a:solidFill>
                  <a:srgbClr val="000000"/>
                </a:solidFill>
                <a:latin typeface="Arial"/>
                <a:ea typeface="Arial"/>
              </a:rPr>
              <a:t>Carlson (1977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2743200" y="3170160"/>
                <a:ext cx="38178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2514600" y="4191120"/>
                <a:ext cx="43210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hl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hl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2971800" y="1531800"/>
                <a:ext cx="33130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I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TP</m:t>
                                </m:r>
                              </m:den>
                            </m:f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" name="Rectangle 6"/>
          <p:cNvSpPr/>
          <p:nvPr/>
        </p:nvSpPr>
        <p:spPr>
          <a:xfrm>
            <a:off x="4419360" y="382356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7"/>
              <p:cNvSpPr txBox="1"/>
              <p:nvPr/>
            </p:nvSpPr>
            <p:spPr>
              <a:xfrm>
                <a:off x="1828800" y="5257800"/>
                <a:ext cx="5715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S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SI-P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TSI-Chl-a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TSI-SD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57200" y="838080"/>
          <a:ext cx="8305920" cy="5791320"/>
        </p:xfrm>
        <a:graphic>
          <a:graphicData uri="http://schemas.openxmlformats.org/drawingml/2006/table">
            <a:tbl>
              <a:tblPr/>
              <a:tblGrid>
                <a:gridCol w="746280"/>
                <a:gridCol w="1726920"/>
                <a:gridCol w="5832720"/>
              </a:tblGrid>
              <a:tr h="3225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us trof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tera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ltraoligotrof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 jernih, konsentrasi oksigen terlarut tinggi sepanjang tahun dan mencapai zona hipolim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ligotrof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 jernih, dimungkinkan adanya pembatasan anoksik pada zona hipolimnetik secara periodik (DO=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-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sotrof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cerahan air sedang, peningkatan perubahan sifat anoksik di zona hypolimnetik, secara estetika masih mendukung untuk kegiatan olahraga a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7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-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rofik ring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nurunan kecerahan air, zona hypolimnetik bersifat anoksik, terjadi problem tanaman air, hanya ikan-ikan yang mampu hidup di air hangat, mendukung kegiatan olahraga tetapi perlu penanga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rofik sed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dominasi oleh alga hijau-biru, terjadi pengumpalan, problem tanaman air sudah ekstens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rofik ber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adi blooming alga berat, tanaman air membentuk lapisan bed seperti kondisi hypereutrof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pereutrof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adinya gumpalan alga, ikan mati, tanaman air sedikit didominasi oleh al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3"/>
          <p:cNvSpPr/>
          <p:nvPr/>
        </p:nvSpPr>
        <p:spPr>
          <a:xfrm>
            <a:off x="457200" y="228600"/>
            <a:ext cx="6248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Arial"/>
                <a:ea typeface="Arial"/>
              </a:rPr>
              <a:t>Kategori status trofik Carlson (19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457200" y="457200"/>
            <a:ext cx="358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rophic</a:t>
            </a:r>
            <a:r>
              <a:rPr b="1" lang="id-ID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dex (T</a:t>
            </a:r>
            <a:r>
              <a:rPr b="1" lang="id-ID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</a:t>
            </a:r>
            <a:r>
              <a:rPr b="1" lang="id-ID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609480" y="1477800"/>
            <a:ext cx="7543800" cy="314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IndeksTrofik (Trophic Index/TRIX) dikembangkan oleh Vollenweider </a:t>
            </a:r>
            <a:r>
              <a:rPr b="0" i="1" lang="id-ID" sz="2000" spc="-1" strike="noStrike">
                <a:solidFill>
                  <a:srgbClr val="000000"/>
                </a:solidFill>
                <a:latin typeface="Arial"/>
              </a:rPr>
              <a:t>et.al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(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Dapat digunakan untuk mengetahui tingkat kesuburan perairan pesisir lautan serta danau berdasarkan beberapa parameter yang menggambarkan kesuburan perairan, yai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onsentrasi ortofosf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onsentrasi total nitro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onsentrasi klorofil-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Oksigen satur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172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erhitung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Trophic Index (TRI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685800" y="1219320"/>
                <a:ext cx="41767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RI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L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" name="Rectangle 5"/>
          <p:cNvSpPr/>
          <p:nvPr/>
        </p:nvSpPr>
        <p:spPr>
          <a:xfrm>
            <a:off x="685800" y="2445840"/>
            <a:ext cx="4794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terang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ling  factor </a:t>
            </a:r>
            <a:r>
              <a:rPr b="0" i="1" lang="id-ID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jumlah parameter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rata-rata nilai 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batas atas (rataan M + 2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batas bawah (rataan M – 2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685800" y="4805640"/>
            <a:ext cx="3657600" cy="1313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IX &lt; 2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oligotrof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 ≤ TRIX &lt; 4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mesotrof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 ≤ TRIX &lt; 6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eutrof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IX ≥ 6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hipertrof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371600" y="3962520"/>
          <a:ext cx="6095880" cy="15843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e kesubu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lai inde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igotrof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sotrof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trofi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sp>
        <p:nvSpPr>
          <p:cNvPr id="73" name="Rectangle 7"/>
          <p:cNvSpPr/>
          <p:nvPr/>
        </p:nvSpPr>
        <p:spPr>
          <a:xfrm>
            <a:off x="533520" y="542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deks Nygaard (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304920" y="2895480"/>
                <a:ext cx="85690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umla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n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yxophycea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hlorococcales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entri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uglenophy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jumla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jen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smidiacea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Rectangle 3"/>
          <p:cNvSpPr/>
          <p:nvPr/>
        </p:nvSpPr>
        <p:spPr>
          <a:xfrm>
            <a:off x="457200" y="1300320"/>
            <a:ext cx="8305920" cy="1313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  <a:ea typeface="Calibri"/>
              </a:rPr>
              <a:t>Perhitungan indeks Nygaard didasarkan pada komposisi jumlah jenis fitoplankton. Fitoplankton akan merespon terhadap kondisi lingkungan perairan sehingga komposisi jenis dari fitoplankton dapat menjadi suatu indikator status kesuburan perair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20:01:07Z</dcterms:created>
  <dc:creator>Other</dc:creator>
  <dc:description/>
  <dc:language>en-US</dc:language>
  <cp:lastModifiedBy>user1</cp:lastModifiedBy>
  <dcterms:modified xsi:type="dcterms:W3CDTF">2013-09-27T02:33:44Z</dcterms:modified>
  <cp:revision>44</cp:revision>
  <dc:subject/>
  <dc:title>Slide 1</dc:title>
</cp:coreProperties>
</file>