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50C4C-A5E5-4AEC-89F6-84FE0B3B55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58D6C-E048-4779-9C0E-A34C61CCA31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B90D2-570E-4FAF-A624-9D82B6B48CC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2BB69-7999-44E6-B8FC-1EC158D74AA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5A5A8-7C01-4490-ADCA-E0623327ADD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BDEF7-8439-4F7F-8B7D-EF456F4E00A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BF78E-3263-4582-949B-0E125910E31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85A33-AE2A-42AF-A43B-C210102F6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1512D-9825-463B-B663-127495122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F56FB-AF57-496A-8F38-8175180E0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5339D-8A43-46AA-B3EE-78305386C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9AC2D-7672-48E9-91E1-C3E35038E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E3B14-5988-4FDF-B17B-EDE1778FC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3E5A3-E641-4086-9ED8-794FE85BA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81EDD-2CCA-4095-9C8C-8BBE428AB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21263-092A-4B4E-89A9-E9ABA5EDA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66AC3-A1E2-429E-8F12-D1E9F6D5C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456D4-E168-4AF5-A421-34240D807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31AC0-CAB8-4781-A502-BD4D1132C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54F6B-F9A5-4EAF-9FB8-F234A558D2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4400" spc="-1" strike="noStrike">
                <a:solidFill>
                  <a:srgbClr val="000000"/>
                </a:solidFill>
                <a:latin typeface="Calibri"/>
              </a:rPr>
              <a:t>Praktikum ke-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1904760"/>
            <a:ext cx="6400800" cy="144756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4400" spc="-1" strike="noStrike">
                <a:solidFill>
                  <a:srgbClr val="000000"/>
                </a:solidFill>
                <a:latin typeface="Calibri"/>
              </a:rPr>
              <a:t>Penentuan Status Kesuburan Peraira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304812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3200" spc="-1" strike="noStrike">
                <a:solidFill>
                  <a:srgbClr val="000000"/>
                </a:solidFill>
                <a:latin typeface="Calibri"/>
              </a:rPr>
              <a:t>Latihan So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6840" y="762120"/>
            <a:ext cx="853452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libri"/>
              </a:rPr>
              <a:t>Berikut ini adalah data kualitas perairan Danau Lido pada tahun 2009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914400" y="1371600"/>
          <a:ext cx="6781680" cy="4114800"/>
        </p:xfrm>
        <a:graphic>
          <a:graphicData uri="http://schemas.openxmlformats.org/drawingml/2006/table">
            <a:tbl>
              <a:tblPr/>
              <a:tblGrid>
                <a:gridCol w="380880"/>
                <a:gridCol w="1714680"/>
                <a:gridCol w="952560"/>
                <a:gridCol w="1676160"/>
                <a:gridCol w="2057400"/>
              </a:tblGrid>
              <a:tr h="457560"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rame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tu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ilai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7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asiun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asiun </a:t>
                      </a:r>
                      <a:r>
                        <a:rPr b="1" lang="id-ID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75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h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°</a:t>
                      </a:r>
                      <a:r>
                        <a:rPr b="0" lang="id-ID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,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75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cchi (SD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3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9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75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l-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g/</a:t>
                      </a:r>
                      <a:r>
                        <a:rPr b="0" lang="id-ID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</a:t>
                      </a:r>
                      <a:r>
                        <a:rPr b="0" lang="id-ID" sz="20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43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4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75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 Phospha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g/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,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,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75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g/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,</a:t>
                      </a:r>
                      <a:r>
                        <a:rPr b="0" lang="id-ID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75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g/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,</a:t>
                      </a:r>
                      <a:r>
                        <a:rPr b="0" lang="id-ID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</a:t>
                      </a:r>
                      <a:r>
                        <a:rPr b="0" lang="id-ID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75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rtofosfa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g/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0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0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79" name="TextBox 4"/>
          <p:cNvSpPr/>
          <p:nvPr/>
        </p:nvSpPr>
        <p:spPr>
          <a:xfrm>
            <a:off x="838080" y="5562720"/>
            <a:ext cx="73152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Arial"/>
                <a:ea typeface="Arial"/>
              </a:rPr>
              <a:t>Tentukan tingkat kesuburan Danau Lido berdasarkan hasil perhitungan </a:t>
            </a:r>
            <a:r>
              <a:rPr b="1" lang="id-ID" sz="2400" spc="-1" strike="noStrike">
                <a:solidFill>
                  <a:srgbClr val="000000"/>
                </a:solidFill>
                <a:latin typeface="Arial"/>
                <a:ea typeface="Arial"/>
              </a:rPr>
              <a:t>TSI Carlson dan TRIX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304812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3200" spc="-1" strike="noStrike">
                <a:solidFill>
                  <a:srgbClr val="000000"/>
                </a:solidFill>
                <a:latin typeface="Calibri"/>
              </a:rPr>
              <a:t>Latihan So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6840" y="609480"/>
            <a:ext cx="853452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alibri"/>
              </a:rPr>
              <a:t>1. Berikut ini adalah data kualitas perairan Danau Limboto pada tahun 2006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914400" y="1066680"/>
          <a:ext cx="6999120" cy="4114800"/>
        </p:xfrm>
        <a:graphic>
          <a:graphicData uri="http://schemas.openxmlformats.org/drawingml/2006/table">
            <a:tbl>
              <a:tblPr/>
              <a:tblGrid>
                <a:gridCol w="380880"/>
                <a:gridCol w="1714680"/>
                <a:gridCol w="770040"/>
                <a:gridCol w="1009440"/>
                <a:gridCol w="1011240"/>
                <a:gridCol w="1009800"/>
                <a:gridCol w="1103040"/>
              </a:tblGrid>
              <a:tr h="457560"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rame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tu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ilai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7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asiun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asiun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asiun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asiun </a:t>
                      </a:r>
                      <a:r>
                        <a:rPr b="1" lang="id-ID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756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h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°</a:t>
                      </a:r>
                      <a:r>
                        <a:rPr b="0" lang="id-ID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,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,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756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cchi (SD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</a:t>
                      </a:r>
                      <a:r>
                        <a:rPr b="0" lang="id-ID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,</a:t>
                      </a:r>
                      <a:r>
                        <a:rPr b="0" lang="id-ID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r>
                        <a:rPr b="0" lang="id-ID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</a:t>
                      </a:r>
                      <a:r>
                        <a:rPr b="0" lang="id-ID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756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l-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g/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,</a:t>
                      </a:r>
                      <a:r>
                        <a:rPr b="0" lang="id-ID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id-ID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</a:t>
                      </a:r>
                      <a:r>
                        <a:rPr b="0" lang="id-ID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r>
                        <a:rPr b="0" lang="id-ID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1</a:t>
                      </a:r>
                      <a:r>
                        <a:rPr b="0" lang="id-ID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r>
                        <a:rPr b="0" lang="id-ID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3</a:t>
                      </a:r>
                      <a:r>
                        <a:rPr b="0" lang="id-ID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756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 Phospha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g/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r>
                        <a:rPr b="0" lang="id-ID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id-ID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7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r>
                        <a:rPr b="0" lang="id-ID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</a:t>
                      </a:r>
                      <a:r>
                        <a:rPr b="0" lang="id-ID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id-ID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</a:t>
                      </a:r>
                      <a:r>
                        <a:rPr b="0" lang="id-ID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756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g/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,</a:t>
                      </a:r>
                      <a:r>
                        <a:rPr b="0" lang="id-ID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</a:t>
                      </a:r>
                      <a:r>
                        <a:rPr b="0" lang="id-ID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,</a:t>
                      </a:r>
                      <a:r>
                        <a:rPr b="0" lang="id-ID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,</a:t>
                      </a:r>
                      <a:r>
                        <a:rPr b="0" lang="id-ID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756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itra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g/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</a:t>
                      </a:r>
                      <a:r>
                        <a:rPr b="0" lang="id-ID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</a:t>
                      </a:r>
                      <a:r>
                        <a:rPr b="0" lang="id-ID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5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</a:t>
                      </a:r>
                      <a:r>
                        <a:rPr b="0" lang="id-ID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</a:t>
                      </a:r>
                      <a:r>
                        <a:rPr b="0" lang="id-ID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4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756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rtofosfa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g/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,</a:t>
                      </a:r>
                      <a:r>
                        <a:rPr b="0" lang="id-ID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</a:t>
                      </a:r>
                      <a:r>
                        <a:rPr b="0" lang="id-ID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</a:t>
                      </a:r>
                      <a:r>
                        <a:rPr b="0" lang="id-ID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</a:t>
                      </a:r>
                      <a:r>
                        <a:rPr b="0" lang="id-ID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83" name="TextBox 4"/>
          <p:cNvSpPr/>
          <p:nvPr/>
        </p:nvSpPr>
        <p:spPr>
          <a:xfrm>
            <a:off x="914400" y="5715000"/>
            <a:ext cx="73152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Arial"/>
                <a:ea typeface="Arial"/>
              </a:rPr>
              <a:t>Tentukan tingkat kesuburan Danau Limboto berdasarkan hasil perhitungan </a:t>
            </a:r>
            <a:r>
              <a:rPr b="1" lang="id-ID" sz="2400" spc="-1" strike="noStrike">
                <a:solidFill>
                  <a:srgbClr val="000000"/>
                </a:solidFill>
                <a:latin typeface="Arial"/>
                <a:ea typeface="Arial"/>
              </a:rPr>
              <a:t>TSI Carlson dan TRIX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4400" spc="-1" strike="noStrike">
                <a:solidFill>
                  <a:srgbClr val="000000"/>
                </a:solidFill>
                <a:latin typeface="Arial"/>
                <a:ea typeface="Arial"/>
              </a:rPr>
              <a:t>Kesuburan Peraira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1371240" y="1905120"/>
            <a:ext cx="6629400" cy="3124080"/>
          </a:xfrm>
          <a:prstGeom prst="rect">
            <a:avLst/>
          </a:prstGeom>
          <a:solidFill>
            <a:srgbClr val="d7e4bd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Arial"/>
                <a:ea typeface="Arial"/>
              </a:rPr>
              <a:t>Kesuburan perairan merupakan kapasitas atau kemampuan perairan untuk menyediakan unsur hara yang sesuai untuk kehidupan fitoplankton sehingga dapat menghasilkan produksi yang optimum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Arial"/>
                <a:ea typeface="Arial"/>
              </a:rPr>
              <a:t>Namun, jika unsur hara di perairan terlalu berlebihan maka dapat mengakibatkan </a:t>
            </a:r>
            <a:r>
              <a:rPr b="1" lang="id-ID" sz="2000" spc="-1" strike="noStrike">
                <a:solidFill>
                  <a:srgbClr val="000000"/>
                </a:solidFill>
                <a:latin typeface="Arial"/>
                <a:ea typeface="Arial"/>
              </a:rPr>
              <a:t>eutrofikasi</a:t>
            </a:r>
            <a:r>
              <a:rPr b="0" lang="id-ID" sz="2000" spc="-1" strike="noStrike">
                <a:solidFill>
                  <a:srgbClr val="000000"/>
                </a:solidFill>
                <a:latin typeface="Arial"/>
                <a:ea typeface="Arial"/>
              </a:rPr>
              <a:t> yang memicu terjadinya perubahan-perubahan yang tidak dikehendaki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3"/>
          <p:cNvSpPr/>
          <p:nvPr/>
        </p:nvSpPr>
        <p:spPr>
          <a:xfrm>
            <a:off x="1219320" y="1444680"/>
            <a:ext cx="6933960" cy="375300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000" spc="-1" strike="noStrike">
                <a:solidFill>
                  <a:srgbClr val="000000"/>
                </a:solidFill>
                <a:latin typeface="Arial"/>
              </a:rPr>
              <a:t>Perubahan-perubahan yang terjadi akibat eutrofikasi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Arial"/>
              </a:rPr>
              <a:t>Penurunan konsentrasi oksigen terlarut pada lapisan hipolimn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Arial"/>
              </a:rPr>
              <a:t>Peningkatan konsentrasi N dan 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Arial"/>
              </a:rPr>
              <a:t>Peningkatan suspended solid (terutama material organi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Arial"/>
              </a:rPr>
              <a:t>Penurunan penetrasi cahaya (kecerahan menuru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Arial"/>
              </a:rPr>
              <a:t>Terjadi blooming alga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Arial"/>
              </a:rPr>
              <a:t>Sedimentasi tingg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Arial"/>
              </a:rPr>
              <a:t>Keragaman jenis alga rendah, namun kelimpahan tingg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Arial"/>
              </a:rPr>
              <a:t>Sumber: USEPA  </a:t>
            </a:r>
            <a:r>
              <a:rPr b="0" i="1" lang="id-ID" sz="2000" spc="-1" strike="noStrike">
                <a:solidFill>
                  <a:srgbClr val="000000"/>
                </a:solidFill>
                <a:latin typeface="Arial"/>
              </a:rPr>
              <a:t>in</a:t>
            </a:r>
            <a:r>
              <a:rPr b="0" lang="id-ID" sz="2000" spc="-1" strike="noStrike">
                <a:solidFill>
                  <a:srgbClr val="000000"/>
                </a:solidFill>
                <a:latin typeface="Arial"/>
              </a:rPr>
              <a:t> Henderson-Seller&amp;Markland (198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2"/>
          <p:cNvSpPr/>
          <p:nvPr/>
        </p:nvSpPr>
        <p:spPr>
          <a:xfrm>
            <a:off x="457200" y="533520"/>
            <a:ext cx="5181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38080" indent="-838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Trophic State Index (TS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4"/>
          <p:cNvSpPr/>
          <p:nvPr/>
        </p:nvSpPr>
        <p:spPr>
          <a:xfrm>
            <a:off x="1066680" y="1143000"/>
            <a:ext cx="7543800" cy="283824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Arial"/>
              </a:rPr>
              <a:t>Indeks Status Trofik (Trophic State Index/TSI) dikembangkan oleh Carlson (197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Arial"/>
              </a:rPr>
              <a:t>digunakan untuk mengetahui tingkat kesuburan perairan danau berdasarkan beberapa parameter yang menggambarkan kesuburan perairan, yaitu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Arial"/>
              </a:rPr>
              <a:t>Konsentrasi total fosfat (TSI-T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Arial"/>
              </a:rPr>
              <a:t>Konsentrasi klorofil-a (TSI-Chl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Arial"/>
              </a:rPr>
              <a:t>Kedalaman keping Secchi (TSI-S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1066680" y="4114800"/>
            <a:ext cx="518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Arial"/>
                <a:ea typeface="Arial"/>
              </a:rPr>
              <a:t>Mengapa dipilih ketiga parameter tersebu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6"/>
          <p:cNvSpPr/>
          <p:nvPr/>
        </p:nvSpPr>
        <p:spPr>
          <a:xfrm>
            <a:off x="1066680" y="4572000"/>
            <a:ext cx="7543800" cy="1923480"/>
          </a:xfrm>
          <a:prstGeom prst="rect">
            <a:avLst/>
          </a:prstGeom>
          <a:solidFill>
            <a:srgbClr val="fde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Arial"/>
              </a:rPr>
              <a:t>Materi unsur hara yang masuk ke perairan danau berupa </a:t>
            </a:r>
            <a:r>
              <a:rPr b="1" lang="id-ID" sz="2000" spc="-1" strike="noStrike">
                <a:solidFill>
                  <a:srgbClr val="00b050"/>
                </a:solidFill>
                <a:latin typeface="Arial"/>
              </a:rPr>
              <a:t>fosfat</a:t>
            </a:r>
            <a:r>
              <a:rPr b="0" lang="id-ID" sz="2000" spc="-1" strike="noStrike">
                <a:solidFill>
                  <a:srgbClr val="000000"/>
                </a:solidFill>
                <a:latin typeface="Arial"/>
              </a:rPr>
              <a:t> akan menyebabkan terjadinya pertumbuhan fitoplankton yang terlihat dari konsentrasi </a:t>
            </a:r>
            <a:r>
              <a:rPr b="1" lang="id-ID" sz="2000" spc="-1" strike="noStrike">
                <a:solidFill>
                  <a:srgbClr val="00b050"/>
                </a:solidFill>
                <a:latin typeface="Arial"/>
              </a:rPr>
              <a:t>klorofil-a</a:t>
            </a:r>
            <a:r>
              <a:rPr b="0" lang="id-ID" sz="2000" spc="-1" strike="noStrike">
                <a:solidFill>
                  <a:srgbClr val="000000"/>
                </a:solidFill>
                <a:latin typeface="Arial"/>
              </a:rPr>
              <a:t>.  Kepadatan fitoplankton akan menyebabkan terhambatnya cahaya yang masuk ke dalam kolom perairan danau yang ditandai dengan makin berkurangnya tingkat </a:t>
            </a:r>
            <a:r>
              <a:rPr b="1" lang="id-ID" sz="2000" spc="-1" strike="noStrike">
                <a:solidFill>
                  <a:srgbClr val="00b050"/>
                </a:solidFill>
                <a:latin typeface="Arial"/>
              </a:rPr>
              <a:t>kecerahan perairan</a:t>
            </a:r>
            <a:r>
              <a:rPr b="0" lang="id-ID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38188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id-ID" sz="2800" spc="-1" strike="noStrike">
                <a:solidFill>
                  <a:srgbClr val="000000"/>
                </a:solidFill>
                <a:latin typeface="Arial"/>
                <a:ea typeface="Arial"/>
              </a:rPr>
              <a:t>Perhitungan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rophic State Index (TSI)</a:t>
            </a:r>
            <a:r>
              <a:rPr b="1" lang="id-ID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2800"/>
            </a:br>
            <a:r>
              <a:rPr b="0" lang="id-ID" sz="2400" spc="-1" strike="noStrike">
                <a:solidFill>
                  <a:srgbClr val="000000"/>
                </a:solidFill>
                <a:latin typeface="Arial"/>
                <a:ea typeface="Arial"/>
              </a:rPr>
              <a:t>Carlson (1977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" name="Object 3"/>
              <p:cNvSpPr txBox="1"/>
              <p:nvPr/>
            </p:nvSpPr>
            <p:spPr>
              <a:xfrm>
                <a:off x="2743200" y="3170160"/>
                <a:ext cx="3817800" cy="7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SI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SD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6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D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r>
                              <m:t xml:space="preserve">2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" name="Object 4"/>
              <p:cNvSpPr txBox="1"/>
              <p:nvPr/>
            </p:nvSpPr>
            <p:spPr>
              <a:xfrm>
                <a:off x="2514600" y="4191120"/>
                <a:ext cx="432108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SI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Chl</m:t>
                    </m:r>
                    <m:r>
                      <m:t xml:space="preserve">−</m:t>
                    </m:r>
                    <m:r>
                      <m:t xml:space="preserve">a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6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4</m:t>
                            </m:r>
                            <m:r>
                              <m:t xml:space="preserve">−</m:t>
                            </m:r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8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hl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r>
                              <m:t xml:space="preserve">2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Object 5"/>
              <p:cNvSpPr txBox="1"/>
              <p:nvPr/>
            </p:nvSpPr>
            <p:spPr>
              <a:xfrm>
                <a:off x="2971800" y="1531800"/>
                <a:ext cx="3313080" cy="144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SI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TP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6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48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TP</m:t>
                                </m:r>
                              </m:den>
                            </m:f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r>
                              <m:t xml:space="preserve">2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61" name="Rectangle 6"/>
          <p:cNvSpPr/>
          <p:nvPr/>
        </p:nvSpPr>
        <p:spPr>
          <a:xfrm>
            <a:off x="4419360" y="3823560"/>
            <a:ext cx="250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Object 7"/>
              <p:cNvSpPr txBox="1"/>
              <p:nvPr/>
            </p:nvSpPr>
            <p:spPr>
              <a:xfrm>
                <a:off x="1828800" y="5257800"/>
                <a:ext cx="571500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SI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TSI-P 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TSI-Chl-a 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TSI-SD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457200" y="838080"/>
          <a:ext cx="8305920" cy="5791320"/>
        </p:xfrm>
        <a:graphic>
          <a:graphicData uri="http://schemas.openxmlformats.org/drawingml/2006/table">
            <a:tbl>
              <a:tblPr/>
              <a:tblGrid>
                <a:gridCol w="746280"/>
                <a:gridCol w="1726920"/>
                <a:gridCol w="5832720"/>
              </a:tblGrid>
              <a:tr h="322560"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k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tatus trofi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eterang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&lt; 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ltraoligotrofi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ir jernih, konsentrasi oksigen terlarut tinggi sepanjang tahun dan mencapai zona hipolimn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960"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0-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ligotrofi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ir jernih, dimungkinkan adanya pembatasan anoksik pada zona hipolimnetik secara periodik (DO=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5160"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0-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sotrofi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ecerahan air sedang, peningkatan perubahan sifat anoksik di zona hypolimnetik, secara estetika masih mendukung untuk kegiatan olahraga ai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87720"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0-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utrofik ring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enurunan kecerahan air, zona hypolimnetik bersifat anoksik, terjadi problem tanaman air, hanya ikan-ikan yang mampu hidup di air hangat, mendukung kegiatan olahraga tetapi perlu penangan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960"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0-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utrofik seda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idominasi oleh alga hijau-biru, terjadi pengumpalan, problem tanaman air sudah ekstensi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4400"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0-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utrofik bera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erjadi blooming alga berat, tanaman air membentuk lapisan bed seperti kondisi hypereutrofi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960"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&gt;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ypereutrofi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erjadinya gumpalan alga, ikan mati, tanaman air sedikit didominasi oleh alg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" name="Rectangle 3"/>
          <p:cNvSpPr/>
          <p:nvPr/>
        </p:nvSpPr>
        <p:spPr>
          <a:xfrm>
            <a:off x="457200" y="228600"/>
            <a:ext cx="6248520" cy="4597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400" spc="-1" strike="noStrike">
                <a:solidFill>
                  <a:srgbClr val="000000"/>
                </a:solidFill>
                <a:latin typeface="Arial"/>
                <a:ea typeface="Arial"/>
              </a:rPr>
              <a:t>Kategori status trofik Carlson (197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2"/>
          <p:cNvSpPr/>
          <p:nvPr/>
        </p:nvSpPr>
        <p:spPr>
          <a:xfrm>
            <a:off x="457200" y="457200"/>
            <a:ext cx="35812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38080" indent="-838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Trophic</a:t>
            </a:r>
            <a:r>
              <a:rPr b="1" lang="id-ID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Index (T</a:t>
            </a:r>
            <a:r>
              <a:rPr b="1" lang="id-ID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R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I</a:t>
            </a:r>
            <a:r>
              <a:rPr b="1" lang="id-ID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X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4"/>
          <p:cNvSpPr/>
          <p:nvPr/>
        </p:nvSpPr>
        <p:spPr>
          <a:xfrm>
            <a:off x="609480" y="1477800"/>
            <a:ext cx="7543800" cy="314316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Arial"/>
              </a:rPr>
              <a:t>IndeksTrofik (Trophic Index/TRIX) dikembangkan oleh Vollenweider </a:t>
            </a:r>
            <a:r>
              <a:rPr b="0" i="1" lang="id-ID" sz="2000" spc="-1" strike="noStrike">
                <a:solidFill>
                  <a:srgbClr val="000000"/>
                </a:solidFill>
                <a:latin typeface="Arial"/>
              </a:rPr>
              <a:t>et.al</a:t>
            </a:r>
            <a:r>
              <a:rPr b="0" lang="id-ID" sz="2000" spc="-1" strike="noStrike">
                <a:solidFill>
                  <a:srgbClr val="000000"/>
                </a:solidFill>
                <a:latin typeface="Arial"/>
              </a:rPr>
              <a:t> (1998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Arial"/>
              </a:rPr>
              <a:t>Dapat digunakan untuk mengetahui tingkat kesuburan perairan pesisir lautan serta danau berdasarkan beberapa parameter yang menggambarkan kesuburan perairan, yaitu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Arial"/>
              </a:rPr>
              <a:t>Konsentrasi ortofosf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Arial"/>
              </a:rPr>
              <a:t>Konsentrasi total nitro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Arial"/>
              </a:rPr>
              <a:t>Konsentrasi klorofil-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Arial"/>
              </a:rPr>
              <a:t>Oksigen satura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1722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Perhitungan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Trophic Index (TRIX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" name="Object 4"/>
              <p:cNvSpPr txBox="1"/>
              <p:nvPr/>
            </p:nvSpPr>
            <p:spPr>
              <a:xfrm>
                <a:off x="685800" y="1219320"/>
                <a:ext cx="4176720" cy="98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RI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k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f>
                          <m:num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  <m:r>
                              <m:t xml:space="preserve">L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  <m:r>
                              <m:t xml:space="preserve">U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  <m:r>
                              <m:t xml:space="preserve">L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70" name="Rectangle 5"/>
          <p:cNvSpPr/>
          <p:nvPr/>
        </p:nvSpPr>
        <p:spPr>
          <a:xfrm>
            <a:off x="685800" y="2445840"/>
            <a:ext cx="47941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terangan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id-ID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r>
              <a:rPr b="0" i="1" lang="id-ID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alling  factor </a:t>
            </a:r>
            <a:r>
              <a:rPr b="0" i="1" lang="id-ID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id-ID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id-ID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id-ID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jumlah parameter (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 </a:t>
            </a:r>
            <a:r>
              <a:rPr b="0" lang="id-ID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rata-rata nilai paramet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lang="id-ID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batas atas (rataan M + 2s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id-ID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batas bawah (rataan M – 2s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9"/>
          <p:cNvSpPr/>
          <p:nvPr/>
        </p:nvSpPr>
        <p:spPr>
          <a:xfrm>
            <a:off x="685800" y="4805640"/>
            <a:ext cx="3657600" cy="131364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RIX &lt; 2 </a:t>
            </a:r>
            <a:r>
              <a:rPr b="0" lang="id-ID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= oligotrofi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2 ≤ TRIX &lt; 4 </a:t>
            </a:r>
            <a:r>
              <a:rPr b="0" lang="id-ID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= mesotrofi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4 ≤ TRIX &lt; 6 </a:t>
            </a:r>
            <a:r>
              <a:rPr b="0" lang="id-ID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= eutrofi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RIX ≥ 6 </a:t>
            </a:r>
            <a:r>
              <a:rPr b="0" lang="id-ID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= hipertrofi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1371600" y="3962520"/>
          <a:ext cx="6095880" cy="1584360"/>
        </p:xfrm>
        <a:graphic>
          <a:graphicData uri="http://schemas.openxmlformats.org/drawingml/2006/table">
            <a:tbl>
              <a:tblPr/>
              <a:tblGrid>
                <a:gridCol w="3048120"/>
                <a:gridCol w="304776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pe kesubur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0e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ilai indek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0ec"/>
                    </a:solidFill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ligotrofi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sotrofi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– 2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utrofi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 2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</a:tr>
            </a:tbl>
          </a:graphicData>
        </a:graphic>
      </p:graphicFrame>
      <p:sp>
        <p:nvSpPr>
          <p:cNvPr id="73" name="Rectangle 7"/>
          <p:cNvSpPr/>
          <p:nvPr/>
        </p:nvSpPr>
        <p:spPr>
          <a:xfrm>
            <a:off x="533520" y="54288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ndeks Nygaard (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" name="Object 8"/>
              <p:cNvSpPr txBox="1"/>
              <p:nvPr/>
            </p:nvSpPr>
            <p:spPr>
              <a:xfrm>
                <a:off x="304920" y="2895480"/>
                <a:ext cx="8569080" cy="7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n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Jumlah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jenis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Myxophyceae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Chlorococcales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Centric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Euglenophyt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jumlah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jenis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esmidiaceae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5" name="Rectangle 3"/>
          <p:cNvSpPr/>
          <p:nvPr/>
        </p:nvSpPr>
        <p:spPr>
          <a:xfrm>
            <a:off x="457200" y="1300320"/>
            <a:ext cx="8305920" cy="1313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Arial"/>
                <a:ea typeface="Calibri"/>
              </a:rPr>
              <a:t>Perhitungan indeks Nygaard didasarkan pada komposisi jumlah jenis fitoplankton. Fitoplankton akan merespon terhadap kondisi lingkungan perairan sehingga komposisi jenis dari fitoplankton dapat menjadi suatu indikator status kesuburan peraira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7T20:01:07Z</dcterms:created>
  <dc:creator>Other</dc:creator>
  <dc:description/>
  <dc:language>en-US</dc:language>
  <cp:lastModifiedBy>user1</cp:lastModifiedBy>
  <dcterms:modified xsi:type="dcterms:W3CDTF">2013-09-27T02:33:44Z</dcterms:modified>
  <cp:revision>44</cp:revision>
  <dc:subject/>
  <dc:title>Slide 1</dc:title>
</cp:coreProperties>
</file>