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DCE-7BFF-438E-9AD4-CAB2DDFB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75D-7EA8-4B3C-96DB-9B67963C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593-364B-4BF6-860F-BE9C8AA2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3037-353F-4FED-B804-2967B87E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4CB-B40A-4257-BF59-61C30A84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0E5C-5E01-4FBC-B611-74F286DE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B713-ED2F-4DF6-93EE-8BBE1B24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F0F-3A20-48CD-B605-0A6E7BA6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8D2-3121-488B-A7D0-E581437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747-DBD8-43CB-97C4-825FFCFB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368-8292-4331-9B21-D8247B7D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BD51-C6A9-41BE-93F2-AEB965CE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A2BF-9777-48FD-AAD8-8FC4BF7EC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7620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AS X FARM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K 3 PERGURUAN CIK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32000" y="1197000"/>
            <a:ext cx="6696000" cy="789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Purisa"/>
              </a:rPr>
              <a:t>FARMAKOGNOSI</a:t>
            </a:r>
            <a:endParaRPr b="0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Purisa"/>
              <a:ea typeface="Puris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9640" y="1701720"/>
            <a:ext cx="5545080" cy="1937160"/>
            <a:chOff x="539640" y="1701720"/>
            <a:chExt cx="5545080" cy="1937160"/>
          </a:xfrm>
        </p:grpSpPr>
        <p:sp>
          <p:nvSpPr>
            <p:cNvPr id="134" name=""/>
            <p:cNvSpPr/>
            <p:nvPr/>
          </p:nvSpPr>
          <p:spPr>
            <a:xfrm>
              <a:off x="539640" y="2020320"/>
              <a:ext cx="5545080" cy="1618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diaan obat bahan alam yang telah dibuktikan keamanan dan khasiatnya secara ilmiah dengan uji praklinik dan uji klinik, bahan baku dan produk jadinya telah distandarisa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3640" y="1701720"/>
              <a:ext cx="2880360" cy="6994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TOFARMAK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62000" y="549360"/>
            <a:ext cx="7831080" cy="1465560"/>
            <a:chOff x="1062000" y="549360"/>
            <a:chExt cx="7831080" cy="1465560"/>
          </a:xfrm>
        </p:grpSpPr>
        <p:sp>
          <p:nvSpPr>
            <p:cNvPr id="139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88000" y="549360"/>
              <a:ext cx="590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han alamiah yang digunakan sebagai obat yang belum mengalami pengolahan apapun jug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ecuali dinyatakan lain, berupa bahan yang telah dikeringk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Zingiberis Rhizoma, Abri Folium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042920" y="2603520"/>
            <a:ext cx="7831080" cy="1191240"/>
            <a:chOff x="1042920" y="2603520"/>
            <a:chExt cx="7831080" cy="1191240"/>
          </a:xfrm>
        </p:grpSpPr>
        <p:sp>
          <p:nvSpPr>
            <p:cNvPr id="143" name=""/>
            <p:cNvSpPr/>
            <p:nvPr/>
          </p:nvSpPr>
          <p:spPr>
            <a:xfrm>
              <a:off x="1042920" y="2709360"/>
              <a:ext cx="17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Nabati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64560" y="29754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69280" y="2603520"/>
              <a:ext cx="590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isia berupa tanaman utuh, bagian tanaman atau eksudat tana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rhizoma, herba, damar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42920" y="4157640"/>
            <a:ext cx="7831080" cy="2014200"/>
            <a:chOff x="1042920" y="4157640"/>
            <a:chExt cx="7831080" cy="2014200"/>
          </a:xfrm>
        </p:grpSpPr>
        <p:sp>
          <p:nvSpPr>
            <p:cNvPr id="147" name=""/>
            <p:cNvSpPr/>
            <p:nvPr/>
          </p:nvSpPr>
          <p:spPr>
            <a:xfrm>
              <a:off x="1042920" y="4593600"/>
              <a:ext cx="178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Eksudat Tanam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4560" y="485964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69280" y="4157640"/>
              <a:ext cx="5904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i sel yang secara spontan keluar dari tanaman atau isi sel dengan cara tertentu dikeluarkan dari selnya, atau zat-zat nabati lainnya yang dengan cara tertentu dipisahkan dari tanamannya dan belum berupa zat kimia murn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pium, Papanium, etc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2000" y="843120"/>
            <a:ext cx="142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Simplisia Hewa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2920" y="1135080"/>
            <a:ext cx="360360" cy="270000"/>
          </a:xfrm>
          <a:prstGeom prst="rightArrow">
            <a:avLst>
              <a:gd name="adj1" fmla="val 50000"/>
              <a:gd name="adj2" fmla="val 33367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87640" y="65088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sia yang berupa hewan utuh, bagian hewan atau zat-zat yang berguna yang dihasilkan oleh hewan dan belum berupa zat kimia mur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deps Lanae, Mel Depuratum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42920" y="2492280"/>
            <a:ext cx="7831080" cy="1301040"/>
            <a:chOff x="1042920" y="2492280"/>
            <a:chExt cx="7831080" cy="1301040"/>
          </a:xfrm>
        </p:grpSpPr>
        <p:sp>
          <p:nvSpPr>
            <p:cNvPr id="155" name=""/>
            <p:cNvSpPr/>
            <p:nvPr/>
          </p:nvSpPr>
          <p:spPr>
            <a:xfrm>
              <a:off x="1042920" y="2492280"/>
              <a:ext cx="178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Simplisia Mineral (Pelika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64560" y="2974680"/>
              <a:ext cx="360000" cy="270000"/>
            </a:xfrm>
            <a:prstGeom prst="rightArrow">
              <a:avLst>
                <a:gd name="adj1" fmla="val 50000"/>
                <a:gd name="adj2" fmla="val 33333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9280" y="2602080"/>
              <a:ext cx="590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mplisia berupa mineral (pelikan) yang belum diolah atau diolah dengan cara sederhana dan belum berupa zat kimia murn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Vaselinum Album, Paraffinum Solidu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042920" y="505620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Alkalo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2920" y="5157720"/>
            <a:ext cx="360360" cy="270000"/>
          </a:xfrm>
          <a:prstGeom prst="rightArrow">
            <a:avLst>
              <a:gd name="adj1" fmla="val 50000"/>
              <a:gd name="adj2" fmla="val 33367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70360" y="4375080"/>
            <a:ext cx="59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atu basa organik yang mengandung unsur nitrogen (N) pada umumnya berasal dari tanaman, yang mempunyai efek fisiologis kuat/ keras terhadap manu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fat lainnya: sukar larut dalam air; dengan suatu asam akan membentuk garam alkaloid yang lebih mudah larut dalam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dein, Papaverin, Atropi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062000" y="549360"/>
            <a:ext cx="7831080" cy="1465560"/>
            <a:chOff x="1062000" y="549360"/>
            <a:chExt cx="7831080" cy="1465560"/>
          </a:xfrm>
        </p:grpSpPr>
        <p:sp>
          <p:nvSpPr>
            <p:cNvPr id="163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Glikosid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8000" y="549360"/>
              <a:ext cx="59050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oleh enzim tertentu akan terurai menjadi satu macam gula serta satu atau lebih zat bukan gula. Contohnya: Digitalis Folium Purpurea mengandung glukosida A yang dengan enzim digipurpidase digitoksin berubah menjadi digitoksigenin+3 digitoksin+gluk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042920" y="2349360"/>
            <a:ext cx="7831080" cy="2288520"/>
            <a:chOff x="1042920" y="2349360"/>
            <a:chExt cx="7831080" cy="2288520"/>
          </a:xfrm>
        </p:grpSpPr>
        <p:sp>
          <p:nvSpPr>
            <p:cNvPr id="167" name=""/>
            <p:cNvSpPr/>
            <p:nvPr/>
          </p:nvSpPr>
          <p:spPr>
            <a:xfrm>
              <a:off x="1042920" y="3115800"/>
              <a:ext cx="17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Enzi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64560" y="3229560"/>
              <a:ext cx="360000" cy="269280"/>
            </a:xfrm>
            <a:prstGeom prst="rightArrow">
              <a:avLst>
                <a:gd name="adj1" fmla="val 50000"/>
                <a:gd name="adj2" fmla="val 33422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69280" y="2349360"/>
              <a:ext cx="590472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biokatalisator yaitu senyawa atau zat yang berfungsi mempercepat reaksi biokimia/ metabolisme dalam tubuh organism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ing mempunyai nama dengan akhiran -ase, seperti: Amilase, Penisilinase, etc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ya kerja dibatasi oleh suhu (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: tidak aktif, di atas 60oC akan rusak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Carica papay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mengandung enzim papai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042920" y="5013360"/>
            <a:ext cx="7831080" cy="1465560"/>
            <a:chOff x="1042920" y="5013360"/>
            <a:chExt cx="7831080" cy="1465560"/>
          </a:xfrm>
        </p:grpSpPr>
        <p:sp>
          <p:nvSpPr>
            <p:cNvPr id="171" name=""/>
            <p:cNvSpPr/>
            <p:nvPr/>
          </p:nvSpPr>
          <p:spPr>
            <a:xfrm>
              <a:off x="1042920" y="5357520"/>
              <a:ext cx="17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Vita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64560" y="5567760"/>
              <a:ext cx="360000" cy="212760"/>
            </a:xfrm>
            <a:prstGeom prst="rightArrow">
              <a:avLst>
                <a:gd name="adj1" fmla="val 50000"/>
                <a:gd name="adj2" fmla="val 42301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9280" y="5013360"/>
              <a:ext cx="5904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dalam jumlah sedikit sekali diperlukan oleh tubuh manusia untuk membentuk metabolisme tubu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ubuh manusia sendiri tidak dapat memproduksi vita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Oleum lecoris mengandung vitamin A dan vitamin 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16200000">
            <a:off x="-2605320" y="3278880"/>
            <a:ext cx="6172920" cy="4597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Beberapa Definisi dalam Ilmu Farmakogn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62000" y="549360"/>
            <a:ext cx="7831080" cy="1303920"/>
            <a:chOff x="1062000" y="549360"/>
            <a:chExt cx="7831080" cy="1303920"/>
          </a:xfrm>
        </p:grpSpPr>
        <p:sp>
          <p:nvSpPr>
            <p:cNvPr id="176" name=""/>
            <p:cNvSpPr/>
            <p:nvPr/>
          </p:nvSpPr>
          <p:spPr>
            <a:xfrm>
              <a:off x="1062000" y="1027800"/>
              <a:ext cx="142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10 Pitch"/>
                  <a:ea typeface="Courier 10 Pitch"/>
                </a:rPr>
                <a:t>Horm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82920" y="1135800"/>
              <a:ext cx="360000" cy="269640"/>
            </a:xfrm>
            <a:prstGeom prst="rightArrow">
              <a:avLst>
                <a:gd name="adj1" fmla="val 50000"/>
                <a:gd name="adj2" fmla="val 33378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8000" y="549360"/>
              <a:ext cx="5905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zat yang dikeluarkan oleh kelenjar endokrin yang mempengaruhi faal tubuh dan mempengaruhi besar bentuk tubu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oh: Thyroid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042920" y="3213000"/>
            <a:ext cx="17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10 Pitch"/>
                <a:ea typeface="Courier 10 Pitch"/>
              </a:rPr>
              <a:t>Bahan Organik 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9140000">
            <a:off x="2139840" y="3077640"/>
            <a:ext cx="830520" cy="270000"/>
          </a:xfrm>
          <a:prstGeom prst="rightArrow">
            <a:avLst>
              <a:gd name="adj1" fmla="val 50000"/>
              <a:gd name="adj2" fmla="val 769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70360" y="2349360"/>
            <a:ext cx="59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 bagian atau bagian tanaman asal simplisia selain bagian tanaman yang disebutkan dalam paparan makroskopis atau bagian sedemikian yang nilai batasnya disebut monogra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70360" y="4100400"/>
            <a:ext cx="59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wan atau hewan asing berikut fragmennya, zat yang dikeluarkan hewan, kotoran hewan, batu, tanah atau zat pengotor lai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920000">
            <a:off x="2139840" y="4022640"/>
            <a:ext cx="830520" cy="270000"/>
          </a:xfrm>
          <a:prstGeom prst="rightArrow">
            <a:avLst>
              <a:gd name="adj1" fmla="val 50000"/>
              <a:gd name="adj2" fmla="val 76900"/>
            </a:avLst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GIAN-BAGIAN TANAMAN OBAT YANG MENGANDUNG ISI BERKHAS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mus (tubuh tanaman), dibagi 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dix (aka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ulis (bata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lium (daun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ma (kunc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s (bung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uctus (bu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en (bij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ra (umb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hizoma (akar ting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bus (umbi lap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tex (kulit bagian batang/ buah/ buah yang dapat dikelu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ba (bagian tanaman lunak di atas tan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pa (daging bua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yu (lign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SISTEMATIKA TANAMAN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1679400"/>
            <a:ext cx="402264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ta Nama Latin Tan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0760" y="2432160"/>
            <a:ext cx="7924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ggunakan nama l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diri dari dua k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ta pertama menunjukkan genus &amp; kata kedua menunjukkan petunjuk spes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ruf pertama diawali oleh huruf kapital &amp; huruf kedua diawali oleh huruf ke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etak miring atau diberi garis baw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pat diikuti dengan singkatan nama ahli bot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oh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yza sativa 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a latin tanaman tidak boleh lebih dari 2 kata, jika lebih maka kata kedua &amp; ketiga harus dihubungkan dengan tanda (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oh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biscus rosa-sinen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333360"/>
            <a:ext cx="3384360" cy="459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ta Nama Simpli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1249200"/>
            <a:ext cx="856908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lam ketentuan umum Farmakope Indone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a simplisia nabati ditulis dengan menyebutkan nama genus atau species nama tanaman, diikuti nama bagian tanaman yang digunak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ntuan tersebut tidak berlaku untuk simplisia nabati yang diperoleh dari beberapa macam tanaman dan untuk eksudat nab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Genus + nama bagian tana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nchonae Corte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nchona succirub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is Foli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gitalis  la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ym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ymus vulg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ngiberis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ingiber officin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858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Petunjuk Species + nama bagian tana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ladonnae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ropa bellado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pyll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ymus serpyl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ecacuanhe Radix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ephaelis ipecacuan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monii Herb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ura stramon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Genus + Petunjuk Species + nama bagian tana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cuma aeruginosae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rcuma aeruginos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sici frutescentis Fructu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psicum frutescent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Beberapa nama simplisia yang tidak mengikuti tata n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ngae Rhizoma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pinia officinar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nae Foliu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ssia acutifo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eum Aurantii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trus sinen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ahami Farmakog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620640"/>
            <a:ext cx="465444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Standar Kompetensi</a:t>
            </a:r>
            <a:endParaRPr b="0" lang="en-US" sz="1800" spc="-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70120" y="3298680"/>
            <a:ext cx="4654800" cy="5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Kompetensi Dasar</a:t>
            </a:r>
            <a:endParaRPr b="0" lang="en-US" sz="1800" spc="-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2630520" y="1341360"/>
            <a:ext cx="144360" cy="260280"/>
          </a:xfrm>
          <a:prstGeom prst="downArrow">
            <a:avLst>
              <a:gd name="adj1" fmla="val 50000"/>
              <a:gd name="adj2" fmla="val 45075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30840" y="3973680"/>
            <a:ext cx="144360" cy="260280"/>
          </a:xfrm>
          <a:prstGeom prst="downArrow">
            <a:avLst>
              <a:gd name="adj1" fmla="val 50000"/>
              <a:gd name="adj2" fmla="val 45075"/>
            </a:avLst>
          </a:prstGeom>
          <a:solidFill>
            <a:srgbClr val="7db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22480" y="4294080"/>
            <a:ext cx="58262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6480" indent="-6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jelaskan asal dan bagian tanaman obat yang mengandung isi berkhas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EJARAH DAN PERKEMBANGAN </a:t>
            </a:r>
            <a:br>
              <a:rPr sz="3200"/>
            </a:b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FARMAKOG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akognosi berasal dari bahasa Yunani, yai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330200" y="2448000"/>
            <a:ext cx="5834160" cy="1106640"/>
            <a:chOff x="1330200" y="2448000"/>
            <a:chExt cx="5834160" cy="1106640"/>
          </a:xfrm>
        </p:grpSpPr>
        <p:sp>
          <p:nvSpPr>
            <p:cNvPr id="52" name=""/>
            <p:cNvSpPr/>
            <p:nvPr/>
          </p:nvSpPr>
          <p:spPr>
            <a:xfrm>
              <a:off x="1617840" y="2637720"/>
              <a:ext cx="256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1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  <a:ea typeface="Arial"/>
                </a:rPr>
                <a:t>Farmakon: 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42680" y="3094920"/>
              <a:ext cx="552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713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Arial"/>
                  <a:ea typeface="Arial"/>
                </a:rPr>
                <a:t>Gnosis: Ilmu atau Pengetahua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rrow 39"/>
            <p:cNvSpPr/>
            <p:nvPr/>
          </p:nvSpPr>
          <p:spPr>
            <a:xfrm>
              <a:off x="1330200" y="2448000"/>
              <a:ext cx="50400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rrow 39"/>
            <p:cNvSpPr/>
            <p:nvPr/>
          </p:nvSpPr>
          <p:spPr>
            <a:xfrm>
              <a:off x="1330200" y="2448360"/>
              <a:ext cx="504000" cy="86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24000" y="4365720"/>
            <a:ext cx="8496000" cy="1368000"/>
            <a:chOff x="324000" y="4365720"/>
            <a:chExt cx="8496000" cy="1368000"/>
          </a:xfrm>
        </p:grpSpPr>
        <p:sp>
          <p:nvSpPr>
            <p:cNvPr id="57" name=""/>
            <p:cNvSpPr/>
            <p:nvPr/>
          </p:nvSpPr>
          <p:spPr>
            <a:xfrm>
              <a:off x="1117080" y="4653720"/>
              <a:ext cx="7702920" cy="1080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Pengetahuan tentang obat, khususnya dari nabati, hewani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an miner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00" y="4365720"/>
              <a:ext cx="3071160" cy="57600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682560" y="382680"/>
            <a:ext cx="8004240" cy="2546280"/>
            <a:chOff x="682560" y="382680"/>
            <a:chExt cx="8004240" cy="2546280"/>
          </a:xfrm>
        </p:grpSpPr>
        <p:sp>
          <p:nvSpPr>
            <p:cNvPr id="60" name=""/>
            <p:cNvSpPr/>
            <p:nvPr/>
          </p:nvSpPr>
          <p:spPr>
            <a:xfrm>
              <a:off x="682560" y="477720"/>
              <a:ext cx="3071520" cy="57564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rrow 43"/>
            <p:cNvSpPr/>
            <p:nvPr/>
          </p:nvSpPr>
          <p:spPr>
            <a:xfrm>
              <a:off x="3923640" y="765360"/>
              <a:ext cx="1440720" cy="360"/>
            </a:xfrm>
            <a:prstGeom prst="line">
              <a:avLst/>
            </a:prstGeom>
            <a:ln cap="rnd" w="38160">
              <a:solidFill>
                <a:srgbClr val="80008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80000" y="478440"/>
              <a:ext cx="2736360" cy="575640"/>
            </a:xfrm>
            <a:prstGeom prst="flowChartTerminator">
              <a:avLst/>
            </a:prstGeom>
            <a:solidFill>
              <a:srgbClr val="ffffff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Arial"/>
                </a:rPr>
                <a:t>Fluckig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0920" y="382680"/>
              <a:ext cx="137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80"/>
                  </a:solidFill>
                  <a:latin typeface="Arial"/>
                </a:rPr>
                <a:t>menur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2560" y="1737720"/>
              <a:ext cx="8004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engetahuan tentang berbagai macam cabang ilmu pengetahuan untuk memperoleh hal-hal yang perlu diketahui tentang 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79280" y="1125720"/>
              <a:ext cx="215640" cy="574200"/>
            </a:xfrm>
            <a:prstGeom prst="downArrow">
              <a:avLst>
                <a:gd name="adj1" fmla="val 50000"/>
                <a:gd name="adj2" fmla="val 66569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24000" y="3502080"/>
            <a:ext cx="8496000" cy="1150920"/>
            <a:chOff x="324000" y="3502080"/>
            <a:chExt cx="8496000" cy="1150920"/>
          </a:xfrm>
        </p:grpSpPr>
        <p:sp>
          <p:nvSpPr>
            <p:cNvPr id="67" name=""/>
            <p:cNvSpPr/>
            <p:nvPr/>
          </p:nvSpPr>
          <p:spPr>
            <a:xfrm>
              <a:off x="1117080" y="3744360"/>
              <a:ext cx="7702920" cy="908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0008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lmu yang mempelajari obat yang berasal dari al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4000" y="3502080"/>
              <a:ext cx="3071160" cy="484200"/>
            </a:xfrm>
            <a:prstGeom prst="flowChartTerminator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ARMAKOGNOS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149480" y="5081760"/>
            <a:ext cx="7670520" cy="1557000"/>
          </a:xfrm>
          <a:prstGeom prst="rect">
            <a:avLst/>
          </a:prstGeom>
          <a:noFill/>
          <a:ln w="2844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embahas Aspek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, Kimia, Biokimia, Fisika, Farmakologi, Budidaya, dan cara pembuatan sediaan dan aspek ekonomi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250920" y="431640"/>
            <a:ext cx="8713800" cy="1105920"/>
            <a:chOff x="250920" y="431640"/>
            <a:chExt cx="8713800" cy="1105920"/>
          </a:xfrm>
        </p:grpSpPr>
        <p:sp>
          <p:nvSpPr>
            <p:cNvPr id="71" name=""/>
            <p:cNvSpPr/>
            <p:nvPr/>
          </p:nvSpPr>
          <p:spPr>
            <a:xfrm>
              <a:off x="551160" y="620640"/>
              <a:ext cx="8413560" cy="91692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ketahui dari lempeng tanah liat di Perpustakaan Ashurbanipal, Assi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rdapat simplisia : kulit delima, opium, adas manis, madu, ragi, minyak jara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0920" y="43164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± 2.500 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50920" y="1989000"/>
            <a:ext cx="8713800" cy="1106640"/>
            <a:chOff x="250920" y="1989000"/>
            <a:chExt cx="8713800" cy="1106640"/>
          </a:xfrm>
        </p:grpSpPr>
        <p:sp>
          <p:nvSpPr>
            <p:cNvPr id="74" name=""/>
            <p:cNvSpPr/>
            <p:nvPr/>
          </p:nvSpPr>
          <p:spPr>
            <a:xfrm>
              <a:off x="551160" y="2178720"/>
              <a:ext cx="8413560" cy="91692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 Yunani, Hippocrates seorang tabib, mengenal kayu manis, hiosiamina, gentiana, kelembek, gom arab, bunga kantil,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0920" y="198900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466 S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50920" y="3357720"/>
            <a:ext cx="8713800" cy="1410840"/>
            <a:chOff x="250920" y="3357720"/>
            <a:chExt cx="8713800" cy="1410840"/>
          </a:xfrm>
        </p:grpSpPr>
        <p:sp>
          <p:nvSpPr>
            <p:cNvPr id="77" name=""/>
            <p:cNvSpPr/>
            <p:nvPr/>
          </p:nvSpPr>
          <p:spPr>
            <a:xfrm>
              <a:off x="551160" y="3546720"/>
              <a:ext cx="8413560" cy="122184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nnaeus (ahli botani Swedia), menulis buku "Genera Plantarum"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"Genera Plantarum" merupakan buku pedoman utama dari sistematikan botani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50920" y="335772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17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50920" y="4941720"/>
            <a:ext cx="8713800" cy="1410840"/>
            <a:chOff x="250920" y="4941720"/>
            <a:chExt cx="8713800" cy="1410840"/>
          </a:xfrm>
        </p:grpSpPr>
        <p:sp>
          <p:nvSpPr>
            <p:cNvPr id="80" name=""/>
            <p:cNvSpPr/>
            <p:nvPr/>
          </p:nvSpPr>
          <p:spPr>
            <a:xfrm>
              <a:off x="551160" y="5130720"/>
              <a:ext cx="8413560" cy="1221840"/>
            </a:xfrm>
            <a:prstGeom prst="rect">
              <a:avLst/>
            </a:prstGeom>
            <a:noFill/>
            <a:ln cap="rnd" w="3816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72960" indent="-372960">
                <a:buClr>
                  <a:srgbClr val="00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intis oleh Martiuss (Apoteker Jerman) dengan bukunya "Grundriss Der Farmakognosie Des Planzenreisches"  telah menggolongkan simplisia menurut segi morfologi, dan cara-cara utk mengetahui kemurnian simplis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0920" y="4941720"/>
              <a:ext cx="2363760" cy="368280"/>
            </a:xfrm>
            <a:prstGeom prst="rect">
              <a:avLst/>
            </a:prstGeom>
            <a:solidFill>
              <a:srgbClr val="800080"/>
            </a:solidFill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ahun Moder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2600" y="588960"/>
            <a:ext cx="8412120" cy="1496160"/>
          </a:xfrm>
          <a:prstGeom prst="rect">
            <a:avLst/>
          </a:prstGeom>
          <a:noFill/>
          <a:ln cap="rnd" w="38160">
            <a:solidFill>
              <a:srgbClr val="8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mbang pesat setelah pertengahan abad ke 19 (terbatas pada uraian makroskopis dan mikrosko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at ini sudah sampai ke usaha-usaha isolasi, identifikasi, dan teknik-teknik kromatografi untuk tujuan analisa kualitatif dan kuantitat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99960"/>
            <a:ext cx="2952720" cy="368280"/>
          </a:xfrm>
          <a:prstGeom prst="rect">
            <a:avLst/>
          </a:prstGeom>
          <a:solidFill>
            <a:srgbClr val="800080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rmakognosi Sekar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33480" y="2852640"/>
            <a:ext cx="9213840" cy="1800"/>
          </a:xfrm>
          <a:prstGeom prst="line">
            <a:avLst/>
          </a:prstGeom>
          <a:ln w="57240">
            <a:solidFill>
              <a:srgbClr val="80008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3213000"/>
            <a:ext cx="1655640" cy="576360"/>
          </a:xfrm>
          <a:prstGeom prst="flowChartDelay">
            <a:avLst/>
          </a:prstGeom>
          <a:solidFill>
            <a:srgbClr val="ffffff"/>
          </a:solidFill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63640" y="4005360"/>
            <a:ext cx="6624720" cy="187164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elaskan Definisi dari Farmakognosi...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20" y="1628640"/>
            <a:ext cx="2751120" cy="4451760"/>
            <a:chOff x="250920" y="1628640"/>
            <a:chExt cx="2751120" cy="4451760"/>
          </a:xfrm>
        </p:grpSpPr>
        <p:sp>
          <p:nvSpPr>
            <p:cNvPr id="89" name=""/>
            <p:cNvSpPr/>
            <p:nvPr/>
          </p:nvSpPr>
          <p:spPr>
            <a:xfrm>
              <a:off x="250920" y="1871640"/>
              <a:ext cx="2751120" cy="42087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atu bahan atau paduan bahan-bahan yang digunakan dalam menetapkan diagnosa, mencegah, mengurangkan, menyembuhkan penyakit, atau gejala penyakit, luka, atau kelainan badaniah dan rohaniah pada manusia atau hewan, serta memperelok bagian badan manus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560" y="1628640"/>
              <a:ext cx="2175120" cy="503280"/>
            </a:xfrm>
            <a:prstGeom prst="flowChartPreparation">
              <a:avLst/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348000" y="1557360"/>
            <a:ext cx="5545080" cy="2079720"/>
            <a:chOff x="3348000" y="1557360"/>
            <a:chExt cx="5545080" cy="2079720"/>
          </a:xfrm>
        </p:grpSpPr>
        <p:sp>
          <p:nvSpPr>
            <p:cNvPr id="92" name=""/>
            <p:cNvSpPr/>
            <p:nvPr/>
          </p:nvSpPr>
          <p:spPr>
            <a:xfrm>
              <a:off x="3348000" y="1897200"/>
              <a:ext cx="5545080" cy="173988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dalam keadaan murni atau campuran dalam bentuk serbuk, cairan, salep, tablet, pil, suppositoria atau bentuk yang mempunyai nama teknis sesuai dengan Farmakope Indonesia atau buku-buku lain yang ditetapkan pemerinta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92000" y="1557360"/>
              <a:ext cx="2880360" cy="7462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JA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348000" y="4221000"/>
            <a:ext cx="5545080" cy="1490400"/>
            <a:chOff x="3348000" y="4221000"/>
            <a:chExt cx="5545080" cy="1490400"/>
          </a:xfrm>
        </p:grpSpPr>
        <p:sp>
          <p:nvSpPr>
            <p:cNvPr id="95" name=""/>
            <p:cNvSpPr/>
            <p:nvPr/>
          </p:nvSpPr>
          <p:spPr>
            <a:xfrm>
              <a:off x="3348000" y="4520160"/>
              <a:ext cx="5545080" cy="119124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jadi dengan nama dagang yang terdaftar atas nama pembuat atau dikuasakannya dan dijual dalam bungkus asli dari pabrik yang memproduksin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2000" y="4221000"/>
              <a:ext cx="2880360" cy="65700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PAT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3640" y="1523880"/>
            <a:ext cx="0" cy="514512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331800" y="4076640"/>
            <a:ext cx="5272200" cy="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2360" y="1700280"/>
            <a:ext cx="4464000" cy="1747800"/>
            <a:chOff x="252360" y="1700280"/>
            <a:chExt cx="4464000" cy="1747800"/>
          </a:xfrm>
        </p:grpSpPr>
        <p:sp>
          <p:nvSpPr>
            <p:cNvPr id="103" name=""/>
            <p:cNvSpPr/>
            <p:nvPr/>
          </p:nvSpPr>
          <p:spPr>
            <a:xfrm>
              <a:off x="252360" y="1982520"/>
              <a:ext cx="4464000" cy="1465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yang telah habis masa patennya, sehingga dapat diproduksi oleh semua perusahaan farmasi tanpa perlu membayar royalti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0800" y="1700280"/>
              <a:ext cx="2760480" cy="60552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GENERI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52360" y="4941720"/>
            <a:ext cx="1871640" cy="587520"/>
          </a:xfrm>
          <a:prstGeom prst="flowChartAlternateProcess">
            <a:avLst/>
          </a:prstGeom>
          <a:solidFill>
            <a:srgbClr val="ffff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ua J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4720" y="4143240"/>
            <a:ext cx="18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Obat generik bermerk dag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4720" y="5373720"/>
            <a:ext cx="18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Obat generik ber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124000" y="4653000"/>
            <a:ext cx="720720" cy="40320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5373720"/>
            <a:ext cx="720720" cy="28728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41800" y="5445000"/>
            <a:ext cx="2671920" cy="916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sarkan dengan merk kandungan zat aktif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32440" y="3639960"/>
            <a:ext cx="1771560" cy="173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dungan zat aktif diberi nama (merk) sesuai keinginan pabrik o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510080"/>
            <a:ext cx="522360" cy="287280"/>
          </a:xfrm>
          <a:custGeom>
            <a:avLst/>
            <a:gdLst>
              <a:gd name="textAreaLeft" fmla="*/ 81360 w 522360"/>
              <a:gd name="textAreaRight" fmla="*/ 457200 w 52236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27640" y="5692680"/>
            <a:ext cx="522360" cy="289080"/>
          </a:xfrm>
          <a:custGeom>
            <a:avLst/>
            <a:gdLst>
              <a:gd name="textAreaLeft" fmla="*/ 81360 w 522360"/>
              <a:gd name="textAreaRight" fmla="*/ 457200 w 52236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22120" y="2120760"/>
            <a:ext cx="2384280" cy="916920"/>
          </a:xfrm>
          <a:prstGeom prst="rect">
            <a:avLst/>
          </a:prstGeom>
          <a:noFill/>
          <a:ln w="2844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t aktif : Amoxicil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rik A: "Inemicill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rik B: "Gatoticilli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040000">
            <a:off x="6921360" y="3711240"/>
            <a:ext cx="1584360" cy="431640"/>
          </a:xfrm>
          <a:custGeom>
            <a:avLst/>
            <a:gdLst>
              <a:gd name="textAreaLeft" fmla="*/ 287640 w 1584360"/>
              <a:gd name="textAreaRight" fmla="*/ 1138320 w 158436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846" hR="21600" stAng="10800000" swAng="-5400000"/>
                <a:lnTo>
                  <a:pt x="11595" y="21600"/>
                </a:lnTo>
                <a:arcTo wR="7846" hR="21600" stAng="5400000" swAng="-2746348"/>
                <a:lnTo>
                  <a:pt x="21151" y="7200"/>
                </a:lnTo>
                <a:lnTo>
                  <a:pt x="17566" y="0"/>
                </a:lnTo>
                <a:lnTo>
                  <a:pt x="13082" y="7200"/>
                </a:lnTo>
                <a:lnTo>
                  <a:pt x="15242" y="7200"/>
                </a:lnTo>
                <a:arcTo wR="7846" hR="21600" stAng="2653652" swAng="2439928"/>
                <a:lnTo>
                  <a:pt x="9720" y="20974"/>
                </a:lnTo>
                <a:arcTo wR="7846" hR="21600" stAng="5706420" swAng="5093580"/>
                <a:close/>
              </a:path>
              <a:path fill="darkenLess" w="21600" h="21600">
                <a:moveTo>
                  <a:pt x="0" y="0"/>
                </a:moveTo>
                <a:arcTo wR="7846" hR="21600" stAng="10800000" swAng="-5400000"/>
                <a:lnTo>
                  <a:pt x="11595" y="21600"/>
                </a:lnTo>
                <a:arcTo wR="7846" hR="21600" stAng="5400000" swAng="306420"/>
                <a:lnTo>
                  <a:pt x="9720" y="20974"/>
                </a:lnTo>
                <a:arcTo wR="7846" hR="21600" stAng="5706420" swAng="5093580"/>
                <a:close/>
              </a:path>
            </a:pathLst>
          </a:cu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800000">
            <a:off x="7525080" y="4078080"/>
            <a:ext cx="98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8640" y="403200"/>
            <a:ext cx="5553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Beberapa Definisi tentang Ob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873080"/>
            <a:ext cx="3025800" cy="1465560"/>
          </a:xfrm>
          <a:prstGeom prst="rect">
            <a:avLst/>
          </a:pr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at yang terdiri dari bagian yang berkhasiat maupun yang tidak berkhas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9720" y="1628640"/>
            <a:ext cx="2390760" cy="505080"/>
          </a:xfrm>
          <a:prstGeom prst="flowChartPreparation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AT B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3995640" y="1452600"/>
            <a:ext cx="4535640" cy="1962360"/>
            <a:chOff x="3995640" y="1452600"/>
            <a:chExt cx="4535640" cy="1962360"/>
          </a:xfrm>
        </p:grpSpPr>
        <p:sp>
          <p:nvSpPr>
            <p:cNvPr id="121" name=""/>
            <p:cNvSpPr/>
            <p:nvPr/>
          </p:nvSpPr>
          <p:spPr>
            <a:xfrm>
              <a:off x="3995640" y="1949400"/>
              <a:ext cx="4535640" cy="146556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bat yang didapat langsung dari bahan-bahan alamiah Indonesia, terolah secara sederhana atas dasar pengalaman dan digunakan dalam pengobatan tradis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3360" y="1452600"/>
              <a:ext cx="2355840" cy="83304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ASL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97440" y="4065480"/>
            <a:ext cx="4535280" cy="2335680"/>
            <a:chOff x="3997440" y="4065480"/>
            <a:chExt cx="4535280" cy="2335680"/>
          </a:xfrm>
        </p:grpSpPr>
        <p:sp>
          <p:nvSpPr>
            <p:cNvPr id="124" name=""/>
            <p:cNvSpPr/>
            <p:nvPr/>
          </p:nvSpPr>
          <p:spPr>
            <a:xfrm>
              <a:off x="3997440" y="4386960"/>
              <a:ext cx="4535280" cy="2014200"/>
            </a:xfrm>
            <a:prstGeom prst="rect">
              <a:avLst/>
            </a:prstGeom>
            <a:solidFill>
              <a:srgbClr val="ffccff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han atau ramuan bahan yang berupa bahan tumbuhan, bahan hewan, bahan mineral, sediaan galenik atau campuran dari bahan-bahan tsb, secara tradisional telah digunakan untuk pengobatan berdasarkan pengalam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32800" y="4065480"/>
              <a:ext cx="3181320" cy="703080"/>
            </a:xfrm>
            <a:prstGeom prst="horizontalScroll">
              <a:avLst>
                <a:gd name="adj" fmla="val 12500"/>
              </a:avLst>
            </a:prstGeom>
            <a:solidFill>
              <a:srgbClr val="800080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BAT TRADIS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67640" y="260280"/>
            <a:ext cx="1081080" cy="1079640"/>
          </a:xfrm>
          <a:custGeom>
            <a:avLst/>
            <a:gdLst>
              <a:gd name="textAreaLeft" fmla="*/ 248040 w 1081080"/>
              <a:gd name="textAreaRight" fmla="*/ 833040 w 1081080"/>
              <a:gd name="textAreaTop" fmla="*/ 247680 h 1079640"/>
              <a:gd name="textAreaBottom" fmla="*/ 831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40" y="13895"/>
                </a:lnTo>
                <a:lnTo>
                  <a:pt x="3163" y="18437"/>
                </a:lnTo>
                <a:lnTo>
                  <a:pt x="7572" y="18405"/>
                </a:lnTo>
                <a:lnTo>
                  <a:pt x="10800" y="21600"/>
                </a:lnTo>
                <a:lnTo>
                  <a:pt x="13895" y="18460"/>
                </a:lnTo>
                <a:lnTo>
                  <a:pt x="18437" y="18437"/>
                </a:lnTo>
                <a:lnTo>
                  <a:pt x="18405" y="14028"/>
                </a:lnTo>
                <a:lnTo>
                  <a:pt x="21600" y="10800"/>
                </a:lnTo>
                <a:lnTo>
                  <a:pt x="18460" y="7705"/>
                </a:lnTo>
                <a:lnTo>
                  <a:pt x="18437" y="3163"/>
                </a:lnTo>
                <a:lnTo>
                  <a:pt x="14028" y="3195"/>
                </a:lnTo>
                <a:lnTo>
                  <a:pt x="10800" y="0"/>
                </a:lnTo>
                <a:lnTo>
                  <a:pt x="7705" y="3140"/>
                </a:lnTo>
                <a:lnTo>
                  <a:pt x="3163" y="3163"/>
                </a:lnTo>
                <a:lnTo>
                  <a:pt x="3195" y="7572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63640" y="3533760"/>
            <a:ext cx="287280" cy="471600"/>
          </a:xfrm>
          <a:prstGeom prst="downArrow">
            <a:avLst>
              <a:gd name="adj1" fmla="val 50000"/>
              <a:gd name="adj2" fmla="val 41040"/>
            </a:avLst>
          </a:prstGeom>
          <a:solidFill>
            <a:srgbClr val="c0c0c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69640" y="356868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4100400"/>
            <a:ext cx="2619360" cy="22885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pisan, pengisi, pelarut, bahan pembantu (vehiculum) atau komponen lain yang belum dikenal, sehingga tidak diketahui khasiat atau keamanann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1452600"/>
            <a:ext cx="1800" cy="514512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763440" y="3906720"/>
            <a:ext cx="5272200" cy="0"/>
          </a:xfrm>
          <a:prstGeom prst="line">
            <a:avLst/>
          </a:prstGeom>
          <a:ln w="5724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096</vt:lpwstr>
  </property>
</Properties>
</file>