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781-1BD8-48AF-B9DB-807E0725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3A5-4197-4523-9568-948636D6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71A-3005-4B96-ACD0-247DA6C9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43A-821E-4E47-87C0-EBD4121C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FB5-9DD1-412E-BC6B-C8780EEC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7EC-7DB7-40E5-9D15-B1B77880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86A-3C76-465E-99E9-7A5407BE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E31-B139-42A3-AF70-A9DE118B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636-3860-4A4F-B5FD-2860988A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0B1-6C66-4C9F-B958-A8ED5B32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CB3-9812-4893-986A-756F5B4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32E-1F0F-4454-9B55-7EC8292F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08AB-EC38-4F7E-8F9A-455B1DB2A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ebrities Without Makeu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sa-Kud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30760" cy="4822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mela-And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630760" cy="4822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elope-Cru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630760" cy="4822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639040" cy="4830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33720" y="380880"/>
            <a:ext cx="504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icia-Silver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itney-Sp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630760" cy="4822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ista-Flock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631120" cy="4822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meron-Di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30760" cy="4822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ristina-Ric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631120" cy="4822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ew-Barry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0760" cy="4822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le-Be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30760" cy="4822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ia-Robe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630760" cy="4822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9:03:18Z</dcterms:created>
  <dc:creator>user</dc:creator>
  <dc:description/>
  <dc:language>en-US</dc:language>
  <cp:lastModifiedBy>Smets</cp:lastModifiedBy>
  <dcterms:modified xsi:type="dcterms:W3CDTF">2008-08-28T20:20:17Z</dcterms:modified>
  <cp:revision>5</cp:revision>
  <dc:subject/>
  <dc:title>Slide 1</dc:title>
</cp:coreProperties>
</file>