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3AA-F964-4231-9354-CDB374FF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339-E177-4982-904E-A2DC9034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00E-E42C-4493-9F69-23FE491D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C0B-22D5-4459-B317-9D06A412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2F07-3459-4745-9EFD-12F0933E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46BB-CEF4-4087-932F-E17CC804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3CAF-FDFC-4C85-B700-9BC926A0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43D5-DC2B-49BF-8C74-8734DB40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AA99-71F6-4866-9363-63629C3F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7CB8-1EFE-41A6-B7BB-3023C40E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3BAB-F1DD-495B-8C07-2F7522F6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C58-05A8-47BB-8A9C-0549A54D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7E11-CEC0-4B33-8235-E678839C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3C57-5574-474C-8F58-E3B634BF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23F2-B587-4A94-A8B2-84E469A8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5D6E-405F-4F8E-97B9-68AE04AA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488A-0F7C-417D-9001-745BF0A9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0E01-74C3-4929-ADC8-938101BC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7C7C-0EA2-4AB5-9223-2A10AB64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8081-8342-4CEA-9233-CB9B91B1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3866-678C-43E6-9502-E7E9918C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E25E-AC95-4323-AF3E-B9090097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FD7-F51B-4404-94C2-D9D4F9CF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C5DC-ABEF-48E8-87FE-997EBBEF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3A89-42CD-47EF-B779-84C7CE96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FDF4D-79DF-4692-B8E6-EB5F0C60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DC89-4B32-4038-A2F5-F21C97C7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1073-D321-4515-81A6-2BD05595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5F691-97B6-4DF1-9ABB-4E3AC129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953D-1537-4C82-8832-C52E689A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23797-10F6-4C33-8836-190EBBB5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9B7A2-BE2E-4BA3-953B-9926E9B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06CCF-F8EC-4537-8987-D8E2CDA4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363-60FA-4548-9827-7940FB48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CA768-F93E-4C73-A52C-D0821276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F425D-3FD1-46B7-B8B9-FC95F1F5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C89E8-8311-4ED9-8565-C438A58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EE03-2C37-4627-B766-440869A3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CB603-782F-42CC-881C-21C3FE77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AD44-4CFD-4417-9712-B8AA0E59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0BAF-4E32-444B-A3E5-0F41179A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63B61-9475-4AEC-A458-C551764E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CB310-91D4-4DF9-A46A-59F75092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F20E8-6F05-4CDC-BB7D-AAE99D8C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2B1-B326-461F-9C16-B3E617F1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5184E-7BCB-4CF5-A7D6-0AECC81F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97C17-930F-4C3F-B842-F34E49BC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D979C-5EFE-45EF-81EC-610198C3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4D030-D9FA-4BAD-AAED-A98F935D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6A14E-31C3-446A-9667-9639484E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A97B9-0425-4997-9BE4-1BD1016D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9B3F8-B130-4378-8CF0-7671C20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CC5A-04E5-4755-8D94-EA64C9EF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8C79B-6443-445C-B08C-C2779490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67F6-4999-4A20-BF42-D006C6B5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E2B-FF56-4740-B8C0-FB76EA59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11CBE-C581-4957-88BF-97FB1127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A4319-E9A4-4703-98DB-E5F4FC77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26DA5-A2F4-4730-A373-10842773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7D4D4-E295-44C1-9115-8CD93D13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D20EC-F4FE-4E48-84C3-DE5F5EEF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0BBC-EBE9-4170-B9C9-1C948FF6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249CA-07FB-4E9C-977E-598A55E8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E99F5-00BD-46A8-BF60-90C71F3F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C1D0-4E50-4AC0-96C1-610AF44A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6CF9-5AFA-4843-87DB-8907BC44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C1A-0C50-44D2-8303-838C5A10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7E9F-E749-4723-9680-A52B14D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7E7E5-3EB8-4651-BB0B-56CB9B91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7192D-5284-4D3F-9B7D-2FC6BA56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83C-8171-4041-8894-2B55A8FF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9D4-9376-4D11-BE1A-85E0874D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D6B8-CBB9-4EC3-BCB1-9375E290AC4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77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3E1E-76C6-4F1B-8CED-83EBA030B16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22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23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24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25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8DA5-A324-4D3E-B191-0FD555E4A01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7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7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73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27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7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7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8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9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9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9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1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2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2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3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34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34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4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4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5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6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37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7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8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8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38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8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2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3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5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6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7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99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0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01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02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A43A-6F4A-4661-9444-B96839A09AB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45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46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47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3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4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15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59AB-2E4B-441B-9085-B2DC18346A6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938F-7D96-4358-AB81-A57226A5217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GIZI SECARA BIOKIM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riawant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Bag. Biokimia FK UNL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enilaian status vitam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Fungsi vit. D berhubungan dengan metabolisme kalsium dan fosfor. Vit. D mempermudah absorbsi kalsium dan fosfor oleh tulang</a:t>
            </a: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Pada penderita rakhitis ditemukan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Kadar kalsium serum normal atau kura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Kadar fosfor renda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Kadar fosfatase meningk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Kadar 25(OH) kolekalsiferol &lt; 4 mg/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Penilaian status vitami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Vitamin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siensi jarang ditemu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ngguan akibat defisiensi : hemolisis dan berkurangnya umur hidup eritrosit,pada hewan dapat menimbulkan kemandulan. Dapat pula terjadi distrofi otot dan kelainan saraf pus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adar normal vit E dalam serum &gt;= 0,7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vitam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4. Vitamin C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Fungs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Pembentukan zat kolagen, proses pematangan eritrosit, pembentukan tulang dan dentin, respirasi jaring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Defisiensi : scurvy (pertumbuhan anak terganggu, timbul perdarahan kapiler, perdarahan gusi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vitam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5. Tiamin (B1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Defisiensi : beri-ber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Gejala : kelainan saraf, mental dan jantu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. beri-beri infantil : 1-2 minggu tidak menunjukkan kenaikan berat badan, gelisah, pilek atau diare, kelainan pada jantung yang tiba-tiba (dispnea dan takikardi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vitam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b. kasus menahun : ditemukan pada anak yang lebih besar, gizinya kurang dan edema, perut membuncit. Pada orang dewasa terjadi paralisis, sedang pada anak tidak ditemukan paralis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Penilaian status vitami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. Riboflavin (B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isiensi : ariboflavi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jal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retak-retak pada sudut mulut, lidah   merah jambu dan li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isiensi terjadi akiba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. makanan tidak cukup mengandung vit B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. absorbsi tidak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. keperluan meningkat, spt wanita hamil dan menyusui, masa pertumbuhan, hipertiroidis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 : riboflavin dalam urine &lt; 50 m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Penilaian status vitami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. Niasin ‘ pellagra preventive factor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siensi : pellag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jal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3D (dermatitis, diare, demens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lam tubuh dapat dibentuk dari triptof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 : niasin dalam ur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mua umur : &lt; 0,2 mg/g kreati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nita hami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&lt; 0,8 mg/g kreati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vitam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8. Vitamin B6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bentuk aktif : piridoksal fosfat dan piridoksamin fosfa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Fungsi : koenzim, mempengaruhi pemasukan asam amino ke dalam sel, penting untuk fungsi normal susunan saraf tepi dan saraf pusa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Defisiensi : timbul gejala dermatitis dan acrodyni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Lab : piridoksin dalam plasma &lt; 25 mg/m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vitam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iridoksin dalam urin (mcg/g kreatinin)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1-3 th : &lt; 90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4-6 th : &lt; 8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7-9 th : &lt; 60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10-12 th : &lt; 4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13-15 th : &lt; 30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16 +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: &lt; 2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vitam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9. Vitamin B12 (sianokobalamin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Fungsi : metabolisme grup metil, metab prote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Defisiensi : anemia pernisiosa karena kurangnya faktor intrinsik dalam lambung sehingga B12 tidak dapat diserap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t. B12 memerlukan faktor intrinsik di dalam penyerapanny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Lab : vit B12 dalam serum &lt; 100 pg/m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dahuluan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Keunggulan pemeriksaan biokimia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Dapat mendeteksi defisiensi zat gizi lebih din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asil lebih obyekti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nunjang hasil pemeriksaan dg metode lai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Penilaian Status Mine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gsi : pertumbuhan, perkembangan dan fungsi ot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 : gangguan fisik (gondok, kretinisme, sulit berdiri dan berjalan normal, bisu tuli dan juling), gangguan mental (berkurangnya kecerdas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 : iodium dalam urine &lt; 25 ug/g kreatinin (endemis berat), 25-50 ug/g kreatinin (endemik seda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valensi GAKI pd anak sekolah menggambarkan prevalensi dalam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miner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2. Zin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Fungsi : koenzi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tubuh mengandung 1-2 g zink, dalam   darah terikat pada albumin dan globul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ebutuhan : bayi : 3-5 mg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                   </a:t>
            </a: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anak 1-10 th : 10 m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gejala def : pertumbuhan terlambat, dermatosis, hypogonadisme, adaptasi gelap yang menurun, gangguan imunitas, rambut rontok, nafsu makan menur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Lab : zink plasma normalnya 12-17 mmol/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miner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3. Kalsiu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Fungsi : esensial untuk proses pembekuan darah dan efek terhadap jaringan saraf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Kadar dalam darah dipertahankan 10-15 mg%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Konsumsi yang dianjurkan : &lt;1 th 600 m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1-10 th 800 mg, &gt; 10 th 1-1,5 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Lab : kalsium darah normal : 2,1-2,6 mmol/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Penilaian status mine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Fos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ngsi : sumber fosfat bagi pembentukan energi, mineralisasi tulang, pertumbuhan s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ngginya kadar fosfat selama masa pertumbuhan penting untuk menjamin kelangsungan mineralisasi tulang dan tulang rawan yang sedang tumbu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 : fosfor dlm darah normal  : 1,8-2,4 ug/10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Penilaian status mine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. Magnes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ngsi : sebagai ion intrasel, merupakan kofaktor pada fosforilasi oksida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nsentrasinya dalam darah mempengaruhi transmisi saraf dan kontraksi ot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siensi jarang ditemukan kecuali pada KEP be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 : normal dalam darah :1,8-2,4 ug/10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miner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6. Kro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fungsi : berperan penting dalam metabolisme karbohidrat, menstimulasi sintesis asam lemak dan kolesterol dalam hepa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Def : terjadi pertumbuhan yg berkurang dan sindroma yg menyerupai D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Lab : dalam darah normal :0,14-0,15 ug/ml (serum); 0,26-0,28 ug/ml (plasma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miner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7. Tembag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Fungsi : komponen berbagai sistem enzi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Def : jarang kecuali pada KEP bera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Hipokupremia dapat terjadi karena defek pada sintesis seruloplasmin, malabsorpsi atau ekskresi yg berlebiha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‘</a:t>
            </a: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enkes Syndrme’ : penyakit bawaan akibat defek absorpsi tembag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Lab : normal dlm darah : 80-150 ug/100 m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meriksaan Zat Gizi Spesifi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Kurang Energi Protein (KE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nalisis biokimia yg diperlukan : nilai protein atau hasil metabolit protein yang beredar dlm darah dan dikeluarkan bersama urin. Antara lain nilai prealbumin, kadar protein serum dan albumin ser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meriksaan Zat Gizi Spesifi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2. Kurang vitamin 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indikator yang digunakan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plasma vit A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  <a:ea typeface="Arial"/>
              </a:rPr>
              <a:t>≤ 10 ug/d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  <a:ea typeface="Arial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  <a:ea typeface="Arial"/>
              </a:rPr>
              <a:t>liver vitamin A ≤ 5 ug/d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  <a:ea typeface="Arial"/>
              </a:rPr>
              <a:t>3. Anemia Gizi Besi (AGB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  <a:ea typeface="Arial"/>
              </a:rPr>
              <a:t>Batasan Hb darah (Tabel pd buku PSG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meriksaan Zat Gizi Spesifi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4. Gangguan Akibat Kurang Yodium (GAKY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nalisis biokimia : kadar TSH dalam darah dan ekskresi yodium dalam ur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Tingkat keparahan gondok endemik karena defisiensi yodium diklasifikasikan menurut ekskresi yodium dalam urine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dahuluan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SG secara biokimia dapat dilakukan dengan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enilaian status zat bes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enilaian status prote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enilaian status vitam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enilaian status miner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meriksaan Zat Gizi Spesifi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Tahap 1 : gondok endemik dengan rata-rata ekskresi iodium dalam urine &gt; 50ug/g kreatinin. Pada keadaan ini suplai hormon tiroid cukup untuk perkembangan fisik dan mental yang norm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Tahap 2 : gondok endemik dengan ekskresi yodium 25-50 ug/g kreatinin. Pada kondisi ini hormon tiroid mungkin tidak cukup, dapat terjadi risiko hipotiroidisme, tetapi belum sampai kretinis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meriksaan Zat Gizi Spesifi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ahap 3 : ekskresi yodium &lt; 25 ug/g kreatinin. Populasi memiliki risiko menderita kretinis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Kelemahan Pemeriksaan Biokimi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nya bisa dilakukan setelah timbul gangguan metabolis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ayanya 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lu tenaga ah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urang praktis untuk di lapan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da pemeriksaan tertentu spesimen sulit diperole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lu peralatan dan bahan yang lebih bany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lum ada keseragaman dalam nilai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berapa pemeriksaan memerlukan peralatan yg hanya ada di lab pus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WordArt 4"/>
          <p:cNvSpPr txBox="1"/>
          <p:nvPr/>
        </p:nvSpPr>
        <p:spPr>
          <a:xfrm>
            <a:off x="1295280" y="2743200"/>
            <a:ext cx="6019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kian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imakasi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Zat Bes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Tahapan defisiensi zat besi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Tahap awal : kekurangan zat besi (iron depletion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ferritin plasma &lt; 120 ug/L, SI dan Hb norm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2. Defisiensi zat besi tanpa anemia (normocytic iron depletion erytrophoesi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SI dan saturasi transferrin menurun, FEP meningkat, Hb 95%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3. Anemia defisiensi bes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Hb dan Ht menuru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Zat Bes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Indikator lab untuk menentukan status besi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Hemoglob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Hematokri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Besi seru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Ferritin seru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Transferrin satur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Free erythrocytes protophorphyrin (FEP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nsaturated iron-binding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pacity ser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prote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Peranan protein dalam darah antara lain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engatur tekanan osmotik plasm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adangan protein tubuh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terlibat dalam mekanisme pembekuan darah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lat transport zat-zat gizi tertentu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sebagai antibod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engatur aliran darah (membantu kerja jantung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prote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3 fraksi protein dalam darah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lbumin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: 3,5-5 gram/100 m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Globulin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: 1,5-3 gram/100 m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Fibrinogen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: 0,2-0,6 gram/100 m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Status protein dapat diukur dengan pengukuran protein serum antara lain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lbumin, transferrin, prealbumin, retinol binding protein, insulin-like growth Factor-1 dan fibronect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Penilaian status vitam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Meliputi 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Kadar vit. A, D, E C, tiamin, riboflavin, niasin, vit. B6 dan B12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Vitamin 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Deplesi vit. A berlangsung lama, dimulai dengan habisnya persediaan vit A di hati, menurunnya kadar vit A di plasma, terjadi disfungsi retina dan akhirnya perubahan jaringan epitel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bila sudah terjadi kelainan mata, kadar vit A serum sudah sangat rendah (&lt;5 ug/100 ml) dan kadar RBP &lt; 20 ug/100 m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ffcc00"/>
                </a:solidFill>
                <a:latin typeface="Arial Black"/>
              </a:rPr>
              <a:t>KEP : kadar vit A di hepar &lt; 15 ug/gram jar hep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Penilaian status vitami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Vitamin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isiensi : rakhitis, tetani, osteoma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berapa bentuk vit. D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it D2 (ergokalsiferol) berasal dari tumbuh-tumbuhan yang diradiasi sinar ultra vio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it. D3 (kolekalsiferol) dihasilkan oleh radiasi UV pada kulit manusia, terdapat juga secara alamiah pada hewan. Kolekalsiferol dikonversi di hati menjadi 25(OH)kolekalsif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xioo</cp:lastModifiedBy>
  <dcterms:modified xsi:type="dcterms:W3CDTF">2012-11-09T20:01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